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3D1-237C-458E-8CBC-6C56FC34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603-2B21-4AD4-9683-65600B8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182DB-7FF0-4942-809A-3C95C44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AD3D-B9C7-4913-BED0-EB1D0BBF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9D20C-171C-42CD-9AB1-0D23E742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C7129-71D6-4554-B5ED-A4C6AC1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08D8A-7D67-49C7-A40D-168A3AD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7A4D-61EF-409E-A43A-F83FD40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2AE80-6E19-484D-BD2C-E425B0C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36B6C-A8C0-4923-BE53-1387E5BF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F72D6-7BF7-4B83-99E4-C93A3EEE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904558-C3F0-4EDC-8A74-C1A200E0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665-6434-4165-B443-46EA8ABB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B58297-9A4F-4C44-A955-1D4C60AE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10C39B-91E7-44B5-8917-C9956BC5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1433EF-BF01-42DE-9561-738BB8D0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439BC-E938-4692-87FF-1AB76341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D20169-DE7D-4D9F-87B7-A258CC2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BC1B2-FE9F-42EB-AFE1-32F7FA3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26F75-B14E-4E76-9317-B04BEB7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E1ED6-8E63-4237-B2EF-85F299C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9572BD-DEDD-45B7-B4F2-2AB127E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FA1731-32A7-4B40-BC96-97083AC5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A2B-45D5-49D0-BCCF-EFC7F3B7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D9221-F221-48B3-A8C4-DB287DB9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8941E-9474-4DD5-BD78-D811B507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8571-A102-4D99-BE60-523F487D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AAA7D-F2E2-4558-BF42-990EC46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F313-0793-498B-8B15-2DCC2C9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C799B-14C5-4E79-88F0-38F77CC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2C16C-A6B0-41E4-8536-0D6E99C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2967B-772F-42D5-8620-B221366D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71AC9-6041-4E0C-B224-E7A9DD2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C1D3-9AF1-4AE2-826C-A6B962B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EBA2-3020-4C22-951D-5D0391B2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DA10F-566A-4399-8EB5-C06A08CF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0345-86C9-436B-B2B9-28640C04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B4CB6-92DD-42D1-B54B-888CAFC1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E253D-0D43-46B2-B67C-2198A528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0951D-B180-4697-BC38-FA0AF3DD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EE52F-3609-45EA-BE3C-6EC4AAA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660C3-A54A-4AEC-904D-97C40E5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20294-2C44-4193-9617-E1B151C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99F54-4E08-4B8A-B2FD-2AB5431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E67DF-ADFF-432A-9D0C-82274483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9296-82AD-49C9-B252-2D07681F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852D3-B798-4571-894E-F4F8C9C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5630A-96CA-4B37-A149-A6A476F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F45B4-4102-4B1D-842B-8D0C858F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6217D-0BDB-4AE0-9CCC-DDA31BC6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8DDA6-C733-4C48-8CD4-73126BC0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4C108-5A4B-41F6-87DD-F8D89CA9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A64DD-D838-42E2-84C0-468C1DF1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79B4E-1CE5-47FA-BCDB-970A9670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BF2B8-313B-45E3-B0A9-EE00CA6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5592E-FF51-44CC-86EA-FDDB0175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BB13-BD42-4F6E-B3E6-C5AFAA23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FBA84-07B8-4648-94EF-2723515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22FBF-6074-4DA9-B9B5-3B374D3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3A4C3-D1FB-45C6-9834-0DDEFB2B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3F3F6-BCB4-40C2-A412-61052FE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0A8E5-FCD6-40EA-B617-51EBEF2E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AEA51-58F0-4054-9D27-5A47AE82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7DC7E-7D61-4D0E-B172-4262DBBC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4C44C-4634-4438-8A9B-14216B7F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61C33-162A-4785-ADB1-3671FF13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D22E2-2EAA-4CAC-8244-DA77A477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8587-5E28-45C3-A898-C17949E3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9DA4F-1ACF-48B1-BFEC-578B2B84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82BDD-3B22-4A5B-93DD-14D2A6E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4CBC6-340E-4A89-8CE8-3A1A7E0E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49FB6-0E8B-4922-BFBD-7BC7457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B11FF-8D6C-4945-B480-17107F8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2CAC7-7973-424D-82A1-DD1ABE3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F1216-D34C-46B8-8B32-1457CC0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CC4AD-3DB7-47F7-AE9D-5B3F66C1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6BF20-19C7-4D15-9FAC-1D0F1624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1E12EA-41EC-4306-8A91-C36A166C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C6EF-1A61-444E-A170-8075494A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832B99-DD4D-49F2-AD35-93981FE9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F9602E-AEA5-4815-B40B-CEC4ABA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EC5DEF-9B83-4916-BA6B-8D7D965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3BD875-F440-4C1F-A47B-58D7E86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0BEFB9-37AB-4415-9C85-3717F55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52F745-317A-4FDE-B940-0A47C19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C9E6B5-AC7E-4740-895B-E288AF9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B48FF1-6532-4A04-834A-A0A4C35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C8D447-3D3A-459E-A827-7A7646C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DDB127-A48F-4A8C-908C-1B603052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45A-FE72-44A8-A0C7-AE3DEF76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F09D41-41D8-4C60-9C9A-202DDA4C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FA5E6-E849-473C-B894-4C56A80A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E4C3C-3132-45C7-BE9B-750B4B59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B1D8A-A235-44F4-9406-E229AB04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501FC-BC05-44BB-A3D8-26E51A92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C3892-F667-4A3C-BDAE-D923DD4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63269-8C5A-40C8-B585-1AC3615F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5389C-EDD2-4CBC-BB04-AB09B7C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5BA19-103F-4191-AE3D-4F4534D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73E86-23C4-4ED2-8836-0AE3698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01BE-9AC3-4D5F-A877-963634A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4AB27-E9AD-47E8-930F-829DB159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F7319-23A9-4F29-9043-4C453C53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6ABE3-23A3-47B7-B941-A60E83D7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81CAC-B5A9-4214-98EF-B3BD836B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A1736-CE88-43F8-85A0-E5CD1374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764BA-BAD9-4225-B21C-7AED0012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15FEE-35CD-47A9-A0D7-10A46629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CAE9C-CB6F-48FF-87A4-D0F785C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0F664-4918-48DC-9717-1D19470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D6A7B-4850-44BA-A1DC-F4E1A7B2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04C-569A-4A95-AFA5-2860352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C942-824E-4FD4-BB00-9E84368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739CA-6799-4818-BE21-01A8C612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18ADB-2419-421E-8350-188413EA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9F191-94B5-462F-A2A1-CD45FB3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157B2-5BC9-48D3-AB70-5F9BA22E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A0005-B310-4905-B58D-00906A1E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237AD-0FCA-47AA-9784-2412529A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F9A1F-ECAC-4CDD-A6BC-6DF0A8A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4ADB54-4F21-4CF6-9C66-18A78C3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69FC5-D536-4A1F-AC74-C49B1EF7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5A1D3-313D-4555-8377-6C03EC9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5FEC-77BA-4F80-AF18-19EA66B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1C119-29AB-4CB7-9CD2-BCA1BA30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AA1F6-34E8-4F35-B806-2739FC18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3C712-2A1A-42D6-A955-A7F1613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DC25B-035D-45B0-AEEC-C5CF4B9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1FBCC-9620-4B0D-B2CE-8910C1D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DBC84-A846-45BC-ACFD-02013203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2D757-CA03-4E8C-B60A-DC4CED70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03F7E-A12F-4536-AD37-9AE12E57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C2400-7A76-4DFC-A382-F8878E9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45B96-A839-419C-A222-A033196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3CD0-1E74-4703-A7DD-E6E22FB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97E72-6189-4184-B5CD-EEF0C98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55A26-7C74-4B48-B05E-718F9AE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3EEDD-07F1-4255-9786-312551F5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33E39-6AEE-44BB-91F1-0B536262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241F9-3CBF-4105-B131-C02979C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FEA48-4E59-44C9-B425-A063C20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488B6-A09D-4F32-82BF-313C2C6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C49DF-46CC-4FF5-BDCC-36198E00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C632D-F0D1-4018-880F-74EAE8A2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6302F-CBC2-4B06-9E62-0D326835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B92F-B61E-4CF9-A048-75BAEA06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84B06-5426-48B4-967D-5EE716E9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6FD65-F3DD-4B25-A683-8DD93A2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046EB-F11F-4453-9A9E-9E3CAEB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625DE1-333F-460A-8D96-B591A09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4722E-F88A-44A4-A49E-FC4E20B9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50D9E-9BED-4E99-9F6E-D1D1084C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D403F-33C7-423D-8D01-68AF4C5F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5460C-DB87-4398-90D2-2D7BEA9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C56B7-0D23-47A9-A626-A25C8929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015A8-E056-4ED5-9458-093CB5E1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BA3F-E19B-4904-AEA3-AFD4E7DE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AF986-32BB-4B50-BEB9-206FFDF5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6DC6-1C41-40A8-B36C-38961ED0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B5E1-3A79-4044-8534-767DE5D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58C0-E9AB-4C96-95BB-8AD2609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36F7-7589-4BC9-83DB-D91B06B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EBA6-7C2D-4103-A3A1-D1F6AFE5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70B-8F10-4652-8AA9-6ECE93D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B9CF-D766-4737-B2D4-CC62B1C1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5F55-219C-4897-AF19-2B51E67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1851-92C9-4276-8AD3-1BD0E97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6CAF-ABEF-42BB-954E-CCA6671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C46E-8A7E-4348-A6E5-4A53DB01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A45E-1837-48A7-9BED-FEB4080B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2171-B380-4233-B126-22297E42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8771-7F44-4523-81F6-9B68CC70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A849-CE73-4EAF-9D3E-2D94ACBC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B35A-4ECF-43E7-B1AD-3713B62D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00A-5018-4740-BD31-06183F28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66DE-7375-41AF-BD4E-EC5665A0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A269A-D3F7-445B-BD56-CCD5286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80759-9C01-4548-8D7C-4BB05F0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EE6A-8EAF-45C9-8DF0-15047E0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EA8F-1374-44DB-8768-C708483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FD045-0361-4054-ABDB-CF70275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FD41-3AD5-4E87-ABC5-A6DEDE47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7F29-E6DF-4FA2-AA10-4FD1D58B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AF04-8F30-429B-861C-CB09CB92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662B-E7B0-4A5B-98DB-6F00BEB7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626-44AC-48E5-8795-639B945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B1124-0B2E-4082-9CAA-A6C240F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63985-79A2-486D-A039-CE966636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A533-9C30-42C2-A69C-837B9729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A22B1-FDDC-4E2C-AD24-5555CA52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3790-4FBA-4650-928B-1FCD4F39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E8FF-3E0A-4990-8179-94C2B13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2720-2988-46FA-808B-14D2D771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001F-D38F-465E-A01E-8AF84CF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AE6A-DBBC-4FFD-9ABD-1DA24E79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C784D-A5A7-40CC-9F15-4F4F3CAF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D29-C914-4E4E-A030-E44DAD0B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EE61-409E-4BC2-9560-6B781DF2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13284-592C-4BF3-8CC3-A9D15E9D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F914B-7191-4ED6-B865-907145A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BB2E4-B38A-401D-9684-AA424F6C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1EC53-FF2D-4F0D-A969-A1F7F0F6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6E834-272E-4ED0-868F-D2B993F1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A8A2B-30E4-4FA1-966A-FF07E47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EB51A-7D20-4147-8DC0-D48D81A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E47C3-643A-48E0-A8F0-ABEC614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040F2-B432-44F6-8070-7CFAAEDB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0E9-A8E7-4565-AD95-31BB97A1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4BDF2-CEDD-4B9E-AB82-DE4E91E2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FF93F-5ABA-4EFF-96E0-03D0A423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5FE5A-180E-4F48-9DF0-410B5F12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E0E02-D8A3-40E1-B69A-5F0DF795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C3CF9-9D53-4662-AB76-699D07E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49E6-8A97-45E0-8233-A3C49C3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03AF-6BC6-4455-8EB1-0CD4C45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12897-4017-47C3-8A6D-489EBA5E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D7396-2A96-48A9-B662-CAFEDED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05FB-FE94-46F2-86BC-A07A0C81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AB6-F8CD-4B40-A145-09678FD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24D7-BD6D-4963-BB57-28EF4BD5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B2F4-003C-4DC6-AF28-84CE28D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8AD8-3288-45DE-961F-85467000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0F7C-5415-4A7F-9551-D595C816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2CB8-1F23-49C8-B05C-5427B1B7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34E9-C5E9-4DCF-816E-260DB869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D226-B4A8-4189-BC92-9EC0E71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3075-5F58-492F-BFC3-0C26085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81BFE-EA3B-4940-A119-422CD830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25955-C347-4F28-B1EB-3232AC2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ABE-46D7-4BFA-BFF7-10BA4A9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45B98-9C45-405A-9DC3-601A250C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198D-B42B-4712-89BF-4D32492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7407-7895-4172-97AC-DA53DB6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20E74-BE5D-4307-B85F-287DF77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29057-6E84-404D-A693-2A47B7C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B4693-41F5-4CDE-83A9-A70D9040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C1B24-17A7-4A0A-9948-A8C92ACB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3DECE-AAC6-41C0-81CD-597194C2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3877C-F63F-445D-877A-3820D34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6A433-35EB-48C8-8211-6412ABA6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226-B6FB-4EDA-AB34-D8C44C5094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F7E4-2C8A-4F3D-80AD-389D9212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0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AF5B-7297-47F4-A7B8-3EFFE4DDC1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3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DFA-3EE5-48E0-A0C0-6BCCB36A04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1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1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3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5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EE85-D3D8-4910-B183-369C45C71F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E05B-484A-47D1-BFC1-8B3B6FBA4C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0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B2CE-2E34-4308-99D0-3B5D9C31AD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C695-6BA2-49DB-879F-A29F265D0A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2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ADF7-6A0A-4F7B-AF88-0A25298377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27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A876-F8D1-4A4C-B517-D79B619FAA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1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E5F-AA60-4CB1-8009-B106ADAE6F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1CE4-B68C-4FFC-A6B4-5D122E5C84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04B2-1300-4FDA-9135-6926AC3DD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53A8-8B56-40E9-805B-9EF6CD42C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C8E-26E9-424D-A774-4C24D8EF3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CC43-C5B5-4485-8F6C-55B192267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1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69CE-5C2F-4278-A7FC-AD052CD31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DAE5-1E9F-4AA0-9805-25D343DA8E3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535-A2B7-4BE0-8152-F0ADE09B71E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05D-40DE-48CD-9173-4ED46A228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LLİ  KURU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HAN KE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95A46-6476-430F-9F20-417015EA72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 Black"/>
              </a:rPr>
              <a:t>ELLİ  KURUŞ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TEMA: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KAKTAKİ İNSANIN YAŞADIĞI GEÇİM SIKINTISI ANLATILIYOR.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F82C-7A79-43ED-9DD9-ED48CD9383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1000"/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NUÇ OLARAK;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EDEBİ METİNLER KENDİLERİNDEN ÖNCEKİ ESERLERDEN DİL,ANLATIM, TEMA VE ZİHNİYET AÇISINDAN ETKİLENEBİLİRLER.BUNA AYNI ZAMANDA  “EDEBİ BİRİKİM” DE DENİ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EBİ BİRİKİM NE KADAR ZENGİNSE O EDEBİYAT DA O KADAR ZENGİNDİ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ÖRNEĞİN,TANZİMAT EDEBİYATI DÖNEMİNDE HİKAYECİLİKTE BATI ED. ÖRNEK ALINMIŞ. NEDEN?ÇÜNKÜ HİKAYE ALANINDA YETERLİ BİRİKİM Y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1A8-6B18-45BA-8774-AEDD37432C2D}" type="slidenum">
              <a:t>11</a:t>
            </a:fld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HAN KEMAL HER İKİ ÖYKÜSÜNDE DE GEÇİM SIKINTISI KONULARINI ELE ALMIŞ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ZARIMIZ, “TOPLUMSAL GERÇEKLİK” GELENEĞİNE BAĞLI BİRİDİ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LUMSAL GERÇEKLİK:1940’LI YILLARDAN SONRA ORTAYA ÇIKAN TOPLUMUN İÇİNDE BULUNDUĞU DURUMU BÜTÜN ÇIPLAKLIĞIYLA GÖZLER ÖNÜNE SEREN BİR EDEBİ AKIM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DEC3-9CBD-49FE-AF3B-A5C1A299B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İR METNİ DOĞRU DEĞERLENDİREBİLMEK İÇİN YAZARIN BAĞLI OLDUĞU GELENEĞİ VE BU GELENEKLE İLGİLİ YETERLİ BİLGİYİ BİLMESİ GEREKİ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U BİLGİLER BİLİNMEDİĞİ ZAMAN ESER, YA YANLIŞ YADA EKSİK YORUMLA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FBAC-02D5-4716-BEF4-027FED0349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EKONOMİK SIKINTILAR YAŞANDIĞI,HAYAT ŞARTLARININ ZOR OLDUĞU VE ÇOCUKLARIN BİLE ÇALIŞMAK ZORUNDA KALDIKLARI BİR DÖNEMDEN BAHSEDİLİ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 KONU 1940-1970 YILLARI ARASI HİKAYEDE İŞLENEN “HALKIN GEÇİM SIKINTISI” KONUSU YANSITMAKTAD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18AFA-8C6D-4F4F-A860-B0ECB96D9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GÜĞÜ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İL ÖZELLİKLERİ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ĞAL,GÜNDELİK HAYATTA KULLANILAN DİLDEN FARKLI OLARAK EDEBİ BİR DİL KULLANILMIŞTIR.BU DİL YAN VE MECAZ ANLAMLAR TAŞIMAKTADI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E4BB80-FED9-40EC-A258-9383F32CD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LLİ  KURU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İL ÖZELLİKLERİ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ĞAL,GÜNDELİK HAYATTA KULLANILAN DİLDEN FARKLI OLARAK EDEBİ BİR DİL KULLANILMIŞTIR.BU DİL YAN VE MECAZ ANLAMLAR TAŞIMAKTADI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46C-1B63-41AE-A552-D8BD647A6386}" type="slidenum">
              <a:t>4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GÜĞÜM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LATIM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KAHRAMAN ANLATICI BAKIŞ AÇISI VARDIR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KAHRAMAN ANLATICI,YAPTIĞI TASVİR VE TAHLİLLERLE DİLE YENİ DEĞER VE ANLAMLAR YÜKLEMİŞTİR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E6D3D-2A1D-4489-ADB9-8DE825225F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LLİ  KURU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LATIM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HRAMAN ANLATICI BAKIŞ AÇISI VARDI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HRAMAN ANLATICI,YAPTIĞI TASVİR VE TAHLİLLERLE DİLE YENİ DEĞER VE ANLAMLAR YÜKLEMİŞTİ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078-FDFD-4340-8478-A12BA52BC408}" type="slidenum">
              <a:t>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GÜĞÜ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ZİHNİYE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ŞULUK İLİŞKİLERİNİN İYİ OLDUĞU,VAPUR YOLCULUKLARININ VAZGEÇİLMEZ OLDUĞU, HALAT ARABACILARININ VE SOKAK SALEPÇİLERİNİN OLDUĞU BİR DÖNEM ANLATILIYO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A57C8-F0B7-471D-AD68-754716E81F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LLİ  KURU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ZİHNİYE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LUMSAL VE EKONOMİK HAYATIN NHİÇ DE İYİ OLMADIĞI BİR DÖNEMDEN BAHSEDİLİYO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D40-A453-48CE-A9D3-8A940FE98030}" type="slidenum">
              <a:t>8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1000"/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GÜĞÜ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TEMA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HRAMAN ANLATICININ HAYATINDAN BELLİ BİR BÖLÜM ALINAN HİKAYEDE KAHRAMAN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GEÇMİŞE ÖZLEM VE HAYATI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LATILIYO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4FF41-7752-407B-97F5-BEAFD1C20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 PC</cp:lastModifiedBy>
  <dcterms:modified xsi:type="dcterms:W3CDTF">2009-04-24T19:49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