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2A7-8E5B-4C38-97C9-95293011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E2A-99F1-4129-90BA-10F02087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A0E-C4F5-4A05-AA2A-389D515F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108-38EF-4668-AF41-29806801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1DA9B-6F72-4FC1-B242-4A4966F1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2F6E2-CEE1-420E-A7D0-DF2767BD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192A0-A9F2-45AC-9D43-4789E3B3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27C93-59B2-469B-94BE-2625EA6D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A0DCC-2549-464C-B87B-9E9E1E88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78B78-D736-4B51-918C-26A023BC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C266-B0B0-47A6-A043-6C5153E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94B-86DF-4F07-B52D-60925E5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B98A-2EE1-463B-A046-8690473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7E47B-1D5A-4154-8892-A0C9D5D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C16F0-93C4-421C-B521-1646319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16D73-7CC8-429B-9A93-D2025544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5B27C-FE22-43EA-B4B0-D2DE04D9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2EC-847D-4B71-B66B-DC12EE4D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5A9-4796-473A-80AC-C1ABD59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2A7-1122-43B9-A116-F34D473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C99-5E54-4F50-B5F4-E9AAE076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654-4FEF-469E-8A42-D152667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E6E-F2C0-4733-8E18-E15907E2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052-B952-4877-B17E-295BC47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7143-66DF-4DD8-96FF-A5AC72BA4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6C13-D7E1-412D-B6EE-0B4801767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7760" y="457200"/>
            <a:ext cx="213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66"/>
                </a:solidFill>
                <a:latin typeface="Arial"/>
              </a:rPr>
              <a:t>FOR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FORSA’da yapıyı oluşturan unsurlar( Olayları birbirine bağlayan unsurlar) şunlardı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ER: Korsan gemisi,ada,Türk gem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ZAMAN:Tam olarak belli olmasa bile otuz sene, kırk sene,v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İŞİLER: Kara Memiş,Turgut Reis, korsanlar, ada halk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3-Bu metinde anlatılanların aynen birebir yaşanması mümkün değildir.Çünkü bütün edebi eserler gibi bu metinde anlatılanlar da “</a:t>
            </a:r>
            <a:r>
              <a:rPr b="0" lang="tr-TR" sz="3200" spc="-1" strike="noStrike">
                <a:solidFill>
                  <a:srgbClr val="ff0066"/>
                </a:solidFill>
                <a:latin typeface="Arial"/>
              </a:rPr>
              <a:t>KURMACA GERÇEK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” 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4-”İnsana özgü gerçeklik=İnsanın hayal,tasarı,özlemdüşünce vb.ni kapsayan gerçeklik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8-Ömer SEYFETTİN’in “FORSA”yı yazmaktaki amacı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kuyucuda estetik bir zevk ve duygu oluşturmaktır.Bunu yaparken metne mesajı(anafikir) da eklemişt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9-Forsa’da anlatılanlar “insana özgü gerçeklik”tir. Çünkü metinde bir insanın duygu,hayal,tasarım ve izlenimleri anlatılmışt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şi,zaman ve yer unsurları değiştirilemez. Çünkü bunlar bu metnin yapısını oluşturan  ve birbirini tamamlayan unsurlardı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 PC</cp:lastModifiedBy>
  <dcterms:modified xsi:type="dcterms:W3CDTF">2009-04-05T17:19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