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2F28-2BF3-42AB-9435-F1179521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4ED-7FB0-4CA8-AB2D-80E981FB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A257-59FF-4408-B2C1-2DD2178E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51C-C3FE-4ABC-8FAF-D2522ADF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F904-6A68-4D2B-B753-9ADEBC5B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AA4E-E89A-4B3E-9674-DAD28FD3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9FC6-32B0-4380-89BD-63E90104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4610-5E18-49FD-AAC0-15D665A9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6AA9-A42D-4789-8D99-D83A2D99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F0C7-1DB6-49E2-A78A-77EF7B43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2544-6559-465F-9D74-7E12DEA1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9F83-F63A-4545-B597-8EE2814B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081A-6923-41B1-A9EA-E56B4334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D20D-13FD-4782-83DD-30A823D6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9D9D-C06C-45B3-AE20-FED98211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EBD3-CFFC-48B7-8908-85E156B1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DA7A-1ADD-409E-B6EF-0272EA63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F50-5F6E-4629-BAEF-A7BC886F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CD4C-8929-49A8-A4D3-BFDED9AD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4DC3-DE25-4B95-B3C4-81FAF348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909-2EC3-4345-9252-FD499C64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1380-213E-413A-8813-96B97013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315-C661-44A1-8154-4AF4F8FE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94AB-9C32-4FE4-9193-BC5DC4C1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A2AC-4C8C-476E-A8A5-939E1586A051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1D57-51B8-47A4-8D8A-4C110151E7EF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55640" y="230760"/>
            <a:ext cx="813744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Verdana"/>
              </a:rPr>
              <a:t>GAZEL</a:t>
            </a:r>
            <a:br>
              <a:rPr sz="2200"/>
            </a:br>
            <a:br>
              <a:rPr sz="2200"/>
            </a:br>
            <a:r>
              <a:rPr b="1" lang="tr-TR" sz="2200" spc="-1" strike="noStrike">
                <a:solidFill>
                  <a:srgbClr val="ffffff"/>
                </a:solidFill>
                <a:latin typeface="Verdana"/>
              </a:rPr>
              <a:t>Cem'in tamâma erip devri câm kalmışdur</a:t>
            </a:r>
            <a:br>
              <a:rPr sz="2200"/>
            </a:br>
            <a:r>
              <a:rPr b="1" lang="tr-TR" sz="2200" spc="-1" strike="noStrike">
                <a:solidFill>
                  <a:srgbClr val="ffffff"/>
                </a:solidFill>
                <a:latin typeface="Verdana"/>
              </a:rPr>
              <a:t>O camdan da bu mecliste nâm kalmışdur</a:t>
            </a:r>
            <a:br>
              <a:rPr sz="2200"/>
            </a:br>
            <a:br>
              <a:rPr sz="2200"/>
            </a:br>
            <a:r>
              <a:rPr b="1" lang="tr-TR" sz="2200" spc="-1" strike="noStrike">
                <a:solidFill>
                  <a:srgbClr val="ffffff"/>
                </a:solidFill>
                <a:latin typeface="Verdana"/>
              </a:rPr>
              <a:t>Rüsûm-ı lütf ü kerem halk içinde mensîdir</a:t>
            </a:r>
            <a:br>
              <a:rPr sz="2200"/>
            </a:br>
            <a:r>
              <a:rPr b="1" lang="tr-TR" sz="2200" spc="-1" strike="noStrike">
                <a:solidFill>
                  <a:srgbClr val="ffffff"/>
                </a:solidFill>
                <a:latin typeface="Verdana"/>
              </a:rPr>
              <a:t>Fakat alıp verilir bir selâm kalmışdur</a:t>
            </a:r>
            <a:br>
              <a:rPr sz="2200"/>
            </a:br>
            <a:br>
              <a:rPr sz="2200"/>
            </a:br>
            <a:r>
              <a:rPr b="1" lang="tr-TR" sz="2200" spc="-1" strike="noStrike">
                <a:solidFill>
                  <a:srgbClr val="ffffff"/>
                </a:solidFill>
                <a:latin typeface="Verdana"/>
              </a:rPr>
              <a:t>Rakîp sâye-i lütfunda oldu perverde</a:t>
            </a:r>
            <a:br>
              <a:rPr sz="2200"/>
            </a:br>
            <a:r>
              <a:rPr b="1" lang="tr-TR" sz="2200" spc="-1" strike="noStrike">
                <a:solidFill>
                  <a:srgbClr val="ffffff"/>
                </a:solidFill>
                <a:latin typeface="Verdana"/>
              </a:rPr>
              <a:t>Anınçün ey gül-i ter böyle hâm kalmışdur</a:t>
            </a:r>
            <a:br>
              <a:rPr sz="2200"/>
            </a:br>
            <a:br>
              <a:rPr sz="2200"/>
            </a:br>
            <a:r>
              <a:rPr b="1" lang="tr-TR" sz="2200" spc="-1" strike="noStrike">
                <a:solidFill>
                  <a:srgbClr val="ffffff"/>
                </a:solidFill>
                <a:latin typeface="Verdana"/>
              </a:rPr>
              <a:t>Cihân içinde murâdım ne ise verdi kazâ</a:t>
            </a:r>
            <a:br>
              <a:rPr sz="2200"/>
            </a:br>
            <a:r>
              <a:rPr b="1" lang="tr-TR" sz="2200" spc="-1" strike="noStrike">
                <a:solidFill>
                  <a:srgbClr val="ffffff"/>
                </a:solidFill>
                <a:latin typeface="Verdana"/>
              </a:rPr>
              <a:t>Hemen bir almadığım intikâm kalmışdur</a:t>
            </a:r>
            <a:br>
              <a:rPr sz="2200"/>
            </a:br>
            <a:br>
              <a:rPr sz="2200"/>
            </a:br>
            <a:r>
              <a:rPr b="1" lang="tr-TR" sz="2200" spc="-1" strike="noStrike">
                <a:solidFill>
                  <a:srgbClr val="ffffff"/>
                </a:solidFill>
                <a:latin typeface="Verdana"/>
              </a:rPr>
              <a:t>Ümid kâtib-i takdirden müsâadedir</a:t>
            </a:r>
            <a:br>
              <a:rPr sz="2200"/>
            </a:br>
            <a:r>
              <a:rPr b="1" lang="tr-TR" sz="2200" spc="-1" strike="noStrike">
                <a:solidFill>
                  <a:srgbClr val="ffffff"/>
                </a:solidFill>
                <a:latin typeface="Verdana"/>
              </a:rPr>
              <a:t>Cerîde-i emelim nâ-tamâm kalmışdur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ÖLÇÜ: Aruz ölçüs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FİYE ŞEMASI: AA   BA   CA   DA   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ZIM ŞEKLİ: Gaz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ZIM BİRİMİ: Bey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1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99ff99"/>
                </a:solidFill>
                <a:latin typeface="Arial"/>
              </a:rPr>
              <a:t>1.birim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:Eğlence meclislerinde neşe azalmış,eskisi gibi değil:şimde sadece eğlencenin adı kald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99ff99"/>
                </a:solidFill>
                <a:latin typeface="Arial"/>
              </a:rPr>
              <a:t>2.birim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:Günümüzde iyilik ve cömertlik unutulmuş,sadece bir selamlaşma kalmış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99ff99"/>
                </a:solidFill>
                <a:latin typeface="Arial"/>
              </a:rPr>
              <a:t>3.birim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: (Sevgiliye seslenerek)Senin iyiliklerin yüzünden rakibin böyle olgunlaşmamış,pişmemiş bir insan olarak kaldı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99ff99"/>
                </a:solidFill>
                <a:latin typeface="Arial"/>
              </a:rPr>
              <a:t>4.birim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:Dünyada istediğim her şeye kavuştum,bir tek kötülüklerden intikam almadı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99ff99"/>
                </a:solidFill>
                <a:latin typeface="Arial"/>
              </a:rPr>
              <a:t>5.birim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:Allahtan yapamadıklarını yapmak için izin istiy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ÇÜNKÜ  her iki beyitte de yakınma,şikayet vard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ŞAİR, Divan şairi,şiir de Divan Şiiri geleneğine bağlıd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 mısralar bize dönemde sosyal ilişkilerin bozulduğunu,yardımlaşmanın bittiğini ,sadece selamlaşmanın kaldığını göstermekte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Cem,câm,meclis, 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Rüsûm-ı lütf ü kerem,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Rakîp, sâye-i lütf, gül-i ter, kâtib-i takdir, Cerîde-i emel, nâ-tamâm, perverde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elimeleri ARAPÇA ve  FARSÇA  kökenlidir ve zor anlaşılır kelimelerdir. 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çsun bizim de gönlümüz sâki medet sun câm-ı C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ısrasında “sâki” ye seslenerek NİDA(Seslenme) sanatı yapılmı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câm-ı Cem“  diyerek TELMİH(hatırlatma) sanatı yapılmıştı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9:45:40Z</dcterms:created>
  <dc:creator>USER</dc:creator>
  <dc:description/>
  <dc:language>en-US</dc:language>
  <cp:lastModifiedBy>MICRO PC</cp:lastModifiedBy>
  <dcterms:modified xsi:type="dcterms:W3CDTF">2009-03-09T19:57:07Z</dcterms:modified>
  <cp:revision>7</cp:revision>
  <dc:subject/>
  <dc:title>Slayt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