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F8C-EF42-42C0-BAB8-12A01BDE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992-020B-4AAE-A955-7176B101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19A-15D0-47DF-AE1E-FEB0F695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A1D-BBAA-4093-9CB1-50AAB697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C29-A9CD-4A25-B6A8-E2B80501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CF9C-6B77-48D4-A35F-8ED9A0C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4FA0-1FD5-48EB-97FB-825B135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1E65-1291-4197-86A9-1F8C194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E03F-358A-4008-B9FB-949E6CC2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8A1C-3A4A-43B9-914B-F06D2D68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C8D-F3B5-4A72-9853-E8FEFFB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FD2-A229-470B-8C1C-1E36FB1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7776-461F-4566-8DC2-8ABB47B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36C4-E51B-473F-ABAA-848ADC29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2AE-0E62-4D98-8D1D-54422DB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952-C9A5-47A9-B3D5-358A97BE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24D-6A7D-492F-A0DF-23DD1804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448-1E7C-4D90-8FAC-7F32E535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2E8-52E4-4644-B7CD-68EEA34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137-1E5C-4D74-AE14-6B47DAE9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DE1-B081-4E48-BA96-0C27C903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F5F-0D70-4098-A27B-A9FEE326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A82-9162-4C9A-93C4-8750B855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1AE-7CF4-4983-AA26-199CC29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7E6-9040-4FFC-BCD4-F5FB55DD7C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3F9-D584-40FD-A100-1B29F04AEA8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avak Yelleri metninde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dealist,mübalağa,telgraf, yaylı araba, at sırtı, Anadolu’daki büyük işler , amma,Mektep,kesafet” kelimeleri bu metn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mhuriyetin ilk yıllarında yazıldığını göster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avak Yelleri metninde idealleri uğruna Anadolu’nun kalkınma hamlesi içinde olduğu Atatürk’ün inkılap yıllarında Anadolu’ya giden bazı aydın gençler anlatılıy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şat Nuri Güntekin, Anadolu’da yaşanan kalkınma hamlesine eserlerinde yer vererek “Sanat, toplum içindir” ilkesini benimsemişt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şat Nuri Güntekin,cumhuriyetle başlayan dilde millileşme hareketini de benimsediğini ve eserlerinde bunu uyguladığını görüyoruz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ASİYE TEYZE’NİN evi metni kuşak çatışmasını(köyden gelen yaşlı bir kadının şehirleşmeye ayak uyduramamasını) anlatmaktadı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Reşat Nuri Güntekin,”AİLE “ yi işleyerek “sanat,sanat içindir.” anlayışını göstermişti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Bir edebi eser,dönemin sanat anlayışını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1-O dönem eser verilen türl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2- O dönem etkili olan edebi akım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3- O dönem işlenen tema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4- O dönemki dil ve anlatı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cc00"/>
                </a:solidFill>
                <a:latin typeface="Arial Black"/>
              </a:rPr>
              <a:t>Bakımlarından belli e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 PC</cp:lastModifiedBy>
  <dcterms:modified xsi:type="dcterms:W3CDTF">2009-03-30T19:44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