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E68-D986-46B7-A99F-66F7783D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CAB-9054-4BAD-A0C8-588D9974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FBC-156A-4BA4-9BE6-A6B42B82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28B-A612-4725-8569-9557316F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D9C3-3C22-40A9-BD09-FDDE71AB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0A8C-6067-4586-A873-26A531B3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959F-9B77-480B-899E-71727D32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4953-412D-4429-88A4-8132DB62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457D-B06B-41C9-9E64-CFD43262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F30B-085E-4A25-AD85-EF6A3E15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5AF6-A401-4F86-B457-485485A4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39C-76BF-4DD9-AFC0-AA2F3EC0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87EE-A7C2-4C73-887F-1D742603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95AF-2E2C-4707-BFEF-EEB47E17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D744-389B-46E7-AA34-9BE98324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EE69-1893-4F30-BB4E-4E060CE9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8337-96BB-4A0D-B0B2-6C2BB9AF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633-7D08-4C3D-BF51-C769F060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411-EC9C-44D2-AE8A-C0287B63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43B-18A0-4A03-8A21-53F1CEC9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80F-87E2-417A-8A05-3C06C461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556-72A1-41A6-98A4-600EE33E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A73-30A3-4B5B-8BFA-F0D0842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6E2-D9CC-4084-B709-F145224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6A9F-58E2-484C-9BAA-87692EC67616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4749-CEA8-40DF-9C3F-C8A62C8ABDEF}" type="slidenum">
              <a:rPr b="0" lang="tr-T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KOŞMA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Âşık  Ömer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Ela gözlerine kurban olduğum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Yüzüne bakmaya doyamadım ben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İbret için gelmiş derler cihana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oktadır benlerin sayamadım ben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şkın ateşidir sînemi yakan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Lûtfuna erer mi cevrini çeken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olların boynuma dolanmış iken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eni öpmelere kıyamadım ben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Terkeyledim ağalarım, beylerim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ozbulanık seller gibi çağlarım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nın içün ben ah edip ağlarım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yrılık oduna doyamadım ben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aldı deli gönül kaldı hep yasta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Mevla''m erdir beni murada kasda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şık Ömer eydür sevgili dosta</a:t>
            </a: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llah''ısmarladık diyemedim b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birim:Sevgilinin güzelliğ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birim:Sevgiliye duyulan aşk ve öz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birim:Sevgiliden ayrılmanın şair üzerindeki etki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birim:Sevgiliden ayrı kalan şairin dileğ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şk,ateş,sine(göğüs),boz bulanık,sel” kelimeleri  tabiatta ve çevrede karşılaşabileceğimiz durum ve varlıklardır. Fakat bu şiirde şiirsel bir gerçeklik kazanarak anlamı güçlendirmek için kullanılmışt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şmanın yazıldığı dönemde “AŞK” bir ateş olarak nitelendirilmektedir.(2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gili her şeyden üstündür,uğruna can verilebilir.(1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gilinin tüm yaptıklarına katlanmak gerekir.(2.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gili için her şeyden vazgeçilebilir.(3.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45:40Z</dcterms:created>
  <dc:creator>USER</dc:creator>
  <dc:description/>
  <dc:language>en-US</dc:language>
  <cp:lastModifiedBy>MICRO PC</cp:lastModifiedBy>
  <dcterms:modified xsi:type="dcterms:W3CDTF">2009-03-09T19:54:05Z</dcterms:modified>
  <cp:revision>9</cp:revision>
  <dc:subject/>
  <dc:title>Slay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