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8.jpeg" ContentType="image/jpeg"/>
  <Override PartName="/ppt/media/image13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E07-D456-401D-81CD-29C0C0A4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AF2-5DF6-470B-8FF7-01527F3E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C9D-B951-4ED3-9ED0-F816074C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081-B261-4AB3-9B71-496388C0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2ED-8735-49CD-B057-29CACACD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C56-3A2D-4878-A91E-731F834D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FBB-BF16-43D3-89D8-6FBFCAA6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72C-D2B4-4794-98B3-530EB064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1B2-4DF0-4FEA-B254-D4974701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02D-AFB6-4181-9024-063A04D9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30C-2630-4B9C-BCC6-2FE635E6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414-7838-4659-A041-923DC053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3046-D90F-4FE3-8CB1-E142AC9AE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92360" y="486900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EHLİKA SULTA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8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56000" y="5046120"/>
            <a:ext cx="500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hlika Sultan'a aşık yedi genç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eler geçti, henüz gelmediler;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hlika Sultan'a aşık yedi genç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dan gelmeyecekmiş dediler!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43640" y="1125360"/>
            <a:ext cx="360036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21327000">
            <a:off x="-9360" y="950400"/>
            <a:ext cx="915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ahya Kemal BEYATL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2035440" y="582444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zırlayan: Nazire AY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ebiyat Öğret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200"/>
                            </p:stCondLst>
                            <p:childTnLst>
                              <p:par>
                                <p:cTn id="1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5445000"/>
            <a:ext cx="20163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1640" y="436572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500720" y="5157720"/>
            <a:ext cx="1779480" cy="1150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924360" y="4076640"/>
            <a:ext cx="149220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380360" y="494172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00720" y="5661000"/>
            <a:ext cx="2232000" cy="1374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732720" y="4653000"/>
            <a:ext cx="1276200" cy="942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458136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hlika Sultan'a aşık yedi genç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ce şehrin kapısından çıktı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hlika Sultan'a aşık yedi genç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ra sevdalı birer aşıktı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49080" cy="720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11280" y="3789360"/>
            <a:ext cx="2232000" cy="1806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348000" y="3716280"/>
            <a:ext cx="108108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340000" y="3933720"/>
            <a:ext cx="1944720" cy="130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332000" y="3284640"/>
            <a:ext cx="2881080" cy="180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3640" y="547560"/>
            <a:ext cx="50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 hayalet gibi dünya güzel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diğinden beri rü'yalarına;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si meşhur, o muamma güzel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ttiler görmeye Kaf dağların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973080" y="-243000"/>
            <a:ext cx="237636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867800" y="479736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332000" y="2133720"/>
            <a:ext cx="2016000" cy="202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-541440" y="620640"/>
            <a:ext cx="1944720" cy="1303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0" y="836640"/>
            <a:ext cx="1728720" cy="201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476280"/>
            <a:ext cx="501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psi, sırtında aba, günler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ttiler içleri hicranla dolu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 günün ufkunu sardıkça ge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iler: ''Belki son akşamdır bu.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804000" y="4581360"/>
            <a:ext cx="1276200" cy="943200"/>
          </a:xfrm>
          <a:prstGeom prst="rect">
            <a:avLst/>
          </a:prstGeom>
          <a:ln w="0">
            <a:noFill/>
          </a:ln>
        </p:spPr>
      </p:pic>
    </p:spTree>
  </p:cSld>
  <p:transition advTm="14000"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21480" y="4437000"/>
            <a:ext cx="1622520" cy="2187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1513080" cy="129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47640" y="3213000"/>
            <a:ext cx="54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 emel gurbetinin yoktur ucu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ma yollar uzar, kalp üzülür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mrü oldukça yürür her yolcu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madan menzile bir yerde ölü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8360" y="765000"/>
            <a:ext cx="1276200" cy="943200"/>
          </a:xfrm>
          <a:prstGeom prst="rect">
            <a:avLst/>
          </a:prstGeom>
          <a:ln w="0">
            <a:noFill/>
          </a:ln>
        </p:spPr>
      </p:pic>
    </p:spTree>
  </p:cSld>
  <p:transition advTm="14000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879640" cy="1657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6560" y="187200"/>
            <a:ext cx="469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hlika'nın kara sevdalıları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dılar çıkrığı yok bir kuyuya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hlika'nın kara sevdalıları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ktılar korkulu gözlerle suy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2960" y="333360"/>
            <a:ext cx="51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ördüler: ''Aynada bir gizli cihan.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fku çepçevre ölüm servileri.....''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ılar doğdu içinden bir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uzun gözlü, uzun saçlı peri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2228760" cy="1944720"/>
          </a:xfrm>
          <a:prstGeom prst="rect">
            <a:avLst/>
          </a:prstGeom>
          <a:ln w="0">
            <a:noFill/>
          </a:ln>
        </p:spPr>
      </p:pic>
    </p:spTree>
  </p:cSld>
  <p:transition advTm="14000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32000" y="549360"/>
            <a:ext cx="2160360" cy="201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4560" y="2492280"/>
            <a:ext cx="52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 hazin yolcuların en küçüğü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 zaman baktı o viran kuyuya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 neden sonra gümüş bir yüzüğü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mağından sıyırıp attı suy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959280" cy="436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400536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çekilmiş gib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ü'ya oldu!.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diler yolculuğun son  demine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 hayal alemi peyda oldu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öçtüler hep o hayal ale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42920" y="1052640"/>
            <a:ext cx="3167280" cy="2016000"/>
          </a:xfrm>
          <a:prstGeom prst="rect">
            <a:avLst/>
          </a:prstGeom>
          <a:ln w="0">
            <a:noFill/>
          </a:ln>
        </p:spPr>
      </p:pic>
    </p:spTree>
  </p:cSld>
  <p:transition advTm="13000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9:21:36Z</dcterms:created>
  <dc:creator>pc</dc:creator>
  <dc:description/>
  <dc:language>en-US</dc:language>
  <cp:lastModifiedBy>pc</cp:lastModifiedBy>
  <dcterms:modified xsi:type="dcterms:W3CDTF">2009-01-03T17:04:52Z</dcterms:modified>
  <cp:revision>16</cp:revision>
  <dc:subject/>
  <dc:title>Slayt 1</dc:title>
</cp:coreProperties>
</file>