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8F2BB-4F58-46C6-AB89-96B6C4655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8C095-3F15-42B3-A21D-5610024E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F69C3-2A60-42EE-8A31-1C6F3E642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AA0C-2DE6-4553-AD0C-1AFD2E57F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C908C-F720-411A-B9C9-12B26058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20ADC-D484-42CA-A887-5574AC5C1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537D2-0C84-44A3-9214-A577D0335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3D432-CD3E-4285-BA92-32F50123C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3ABD0-A4AD-4092-B2F9-EFFC4F4BB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46672-C4FB-497D-BB2E-E3A804E18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34948-66CC-4B81-ABCF-3C1E7BF3B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09EA-419B-44D9-8D58-AD64E915D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36E63-CA26-404A-99CD-3CD73D6A0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CD212-E0B1-4DB7-AFA8-61341D47D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E1797-D802-404C-8428-9E9DA4AEB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B4EA7-D127-4391-9BC5-01D061B98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1A7E8-C978-4C51-8D69-50BB0DE30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05B7A-E22F-43C8-8B01-4053D6500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1F069-5F5B-4706-82C9-7AF719518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A39D8-0282-428E-A2BB-988D63411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9E9D6-3472-4C23-96B5-80101895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E10F5-3AB4-4D55-8446-6F0BBEB0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23AEF-030B-49B5-9C3C-B9A8B705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3FBD6-9B81-4061-9FAC-32F7EFB21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BDCF-779B-4D1D-8F14-9A87F911732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7B0F-D13D-4C26-A884-903515A7E72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54900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EMPOZYUM</a:t>
            </a:r>
            <a:endParaRPr b="0" lang="en-US" sz="4400" spc="-1" strike="noStrike">
              <a:solidFill>
                <a:srgbClr val="ffff99"/>
              </a:solidFill>
              <a:latin typeface="Arial"/>
            </a:endParaRPr>
          </a:p>
        </p:txBody>
      </p:sp>
      <p:sp>
        <p:nvSpPr>
          <p:cNvPr id="161"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lli bir konuyu aydınlatmak amacıyla, bilim adamı ve araştırmacıların bir araya geldikleri ve konuşmacıların konunun belirli bölümlerini sundukları, tartışmalı toplantılardır. </a:t>
            </a:r>
            <a:endParaRPr b="0" lang="en-US" sz="2400" spc="-1" strike="noStrike">
              <a:solidFill>
                <a:srgbClr val="ffffff"/>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ir başka deyişle; ortaya konan konu hakkında aynı oturumda, çeşitli kişilerin yaptıkları açıklamalı konuşma türüdür. </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ldiri sahiplerine ayrılan zaman oldukça kısadır.</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dakikalık bir sürede 1500-2000 kelime kullanma şansı vardır. Buna göre, hazırlanacak bildiri, dört sayfayı geçmemelidir.</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ümleler, kolay anlaşılır biçimde düzenlenmelidir. </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tni yazmadan önce ana başlıklar vurgulanmalıdır. </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nulabilecek yansı sayısı da 5-6 civarında olmalıdır. </a:t>
            </a:r>
            <a:endParaRPr b="0" lang="en-US" sz="2800" spc="-1" strike="noStrike">
              <a:solidFill>
                <a:srgbClr val="ffffff"/>
              </a:solidFill>
              <a:latin typeface="Verdana"/>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yrıca, bildiri metni, yayımlanmaya uygun biçimde hazırlanmalıdır.</a:t>
            </a: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mpozyumda her konuşma, ayrı bir hazırlıktır, fakat birbirini tamamlayıcı söyleşi ve içtenlik havası vardır.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onuşmalardan sonra konuşmacılar, birbirlerine konu ile ilgili sorular sorabilirler. Böylece sempozyumdan </a:t>
            </a:r>
            <a:r>
              <a:rPr b="0" i="1" lang="en-US" sz="3200" spc="-1" strike="noStrike">
                <a:solidFill>
                  <a:srgbClr val="ffffff"/>
                </a:solidFill>
                <a:latin typeface="Verdana"/>
              </a:rPr>
              <a:t>"</a:t>
            </a:r>
            <a:r>
              <a:rPr b="1" i="1" lang="en-US" sz="3200" spc="-1" strike="noStrike">
                <a:solidFill>
                  <a:srgbClr val="ffffff"/>
                </a:solidFill>
                <a:latin typeface="Verdana"/>
              </a:rPr>
              <a:t>panel</a:t>
            </a:r>
            <a:r>
              <a:rPr b="0" i="1" lang="en-US" sz="3200" spc="-1" strike="noStrike">
                <a:solidFill>
                  <a:srgbClr val="ffffff"/>
                </a:solidFill>
                <a:latin typeface="Verdana"/>
              </a:rPr>
              <a:t>"</a:t>
            </a:r>
            <a:r>
              <a:rPr b="0" lang="en-US" sz="3200" spc="-1" strike="noStrike">
                <a:solidFill>
                  <a:srgbClr val="ffffff"/>
                </a:solidFill>
                <a:latin typeface="Verdana"/>
              </a:rPr>
              <a:t> e geçilir. Daha sonra da tartışmalara seyirciler de katılırsa panelden</a:t>
            </a:r>
            <a:r>
              <a:rPr b="0" i="1" lang="en-US" sz="3200" spc="-1" strike="noStrike">
                <a:solidFill>
                  <a:srgbClr val="ffffff"/>
                </a:solidFill>
                <a:latin typeface="Verdana"/>
              </a:rPr>
              <a:t> "</a:t>
            </a:r>
            <a:r>
              <a:rPr b="1" i="1" lang="en-US" sz="3200" spc="-1" strike="noStrike">
                <a:solidFill>
                  <a:srgbClr val="ffffff"/>
                </a:solidFill>
                <a:latin typeface="Verdana"/>
              </a:rPr>
              <a:t>forum</a:t>
            </a:r>
            <a:r>
              <a:rPr b="0" i="1" lang="en-US" sz="3200" spc="-1" strike="noStrike">
                <a:solidFill>
                  <a:srgbClr val="ffffff"/>
                </a:solidFill>
                <a:latin typeface="Verdana"/>
              </a:rPr>
              <a:t>" </a:t>
            </a:r>
            <a:r>
              <a:rPr b="0" lang="en-US" sz="3200" spc="-1" strike="noStrike">
                <a:solidFill>
                  <a:srgbClr val="ffffff"/>
                </a:solidFill>
                <a:latin typeface="Verdana"/>
              </a:rPr>
              <a:t>a geçilmiş olur.</a:t>
            </a:r>
            <a:endParaRPr b="0" lang="en-US" sz="32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ldiri metni, şu bölümlerden oluşmalıdır :</a:t>
            </a:r>
            <a:br>
              <a:rPr sz="2800"/>
            </a:br>
            <a:endParaRPr b="0" lang="en-US" sz="28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 Giriş:</a:t>
            </a:r>
            <a:r>
              <a:rPr b="0" lang="en-US" sz="2800" spc="-1" strike="noStrike">
                <a:solidFill>
                  <a:srgbClr val="ffffff"/>
                </a:solidFill>
                <a:latin typeface="Verdana"/>
              </a:rPr>
              <a:t> Araştırılan sorunun tanıtılması ve neden bu konunun ele alındığı, çalışmanın diğer çalışmalar arasındaki yeri. (yarım sayfa) </a:t>
            </a:r>
            <a:br>
              <a:rPr sz="2800"/>
            </a:br>
            <a:br>
              <a:rPr sz="2800"/>
            </a:br>
            <a:r>
              <a:rPr b="1" i="1" lang="en-US" sz="2800" spc="-1" strike="noStrike">
                <a:solidFill>
                  <a:srgbClr val="ffffff"/>
                </a:solidFill>
                <a:latin typeface="Verdana"/>
              </a:rPr>
              <a:t>(b) Deney:</a:t>
            </a:r>
            <a:r>
              <a:rPr b="0" lang="en-US" sz="2800" spc="-1" strike="noStrike">
                <a:solidFill>
                  <a:srgbClr val="ffffff"/>
                </a:solidFill>
                <a:latin typeface="Verdana"/>
              </a:rPr>
              <a:t> Malzeme ve yöntemin tanıtımı. (bir sayfa) </a:t>
            </a:r>
            <a:br>
              <a:rPr sz="2800"/>
            </a:br>
            <a:br>
              <a:rPr sz="2800"/>
            </a:br>
            <a:r>
              <a:rPr b="1" i="1" lang="en-US" sz="2800" spc="-1" strike="noStrike">
                <a:solidFill>
                  <a:srgbClr val="ffffff"/>
                </a:solidFill>
                <a:latin typeface="Verdana"/>
              </a:rPr>
              <a:t>(c) Bulgular:</a:t>
            </a:r>
            <a:r>
              <a:rPr b="0" lang="en-US" sz="2800" spc="-1" strike="noStrike">
                <a:solidFill>
                  <a:srgbClr val="ffffff"/>
                </a:solidFill>
                <a:latin typeface="Verdana"/>
              </a:rPr>
              <a:t> Bildirinin en önemli bölümüdür. Dinleyiciler tarafından beklenen yeni bilgi, belge ve önerilerin açıklanması ve tartışılması.</a:t>
            </a:r>
            <a:endParaRPr b="0" lang="en-US" sz="2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ldiri, konferans ile büyük ölçüde bir benzerlik gösterir.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ldiri, öncelikle bilimsel bir yazı türüdür. Oysa konferansta, bilimsellik yanında popüler bir hava söz konusudur. </a:t>
            </a:r>
            <a:endParaRPr b="0" lang="en-US" sz="32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ildiride her şeyden önce aranan özellik, bilimsel bir yenilik getirmiş olması ve orijinal bir konuyu ele almış bulunmasıdır. </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nun yanında bildiri, bilinen bir konuya yenilik getirme, değişik görüş ve düşüncelerle yeni tezler ortaya koyma, bu tezleri bilimsel delillerle doğrulama ya da bir önceki tezi çürütme gibi özellikleri de bünyesinde taşır.</a:t>
            </a:r>
            <a:br>
              <a:rPr sz="2800"/>
            </a:b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 değerlendirmeye göre, bildiriyi kısaca bilimsel bir konuda yenilik getirmek, orijinal bir buluş ortaya koymak amacıyla kaleme alınmış bir yazı türü olarak tanımlamak yerinde olacaktır.</a:t>
            </a:r>
            <a:br>
              <a:rPr sz="2400"/>
            </a:b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ildiri de konferans gibi bir dinleyici topluluğu önünde okunur. Ancak bildirinin sunulduğu topluluk, o konuda az çok uzmanlaşmış kişilerden oluşu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yrıca, bildiride de konferans gibi konuşma ve hitap etme becerisi gözetmek gerekir. Konferansta zaman zaman hazırlanan metinden uzaklaşma söz konusu olabilirken bildiride metne bağlı kalma esastır.</a:t>
            </a:r>
            <a:br>
              <a:rPr sz="2400"/>
            </a:br>
            <a:br>
              <a:rPr sz="2400"/>
            </a:b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onferansta sözünü ettiğimiz konuşmanın bitiminde yer alan soru ve cevap bölümü, bildiride konu çerçevesinde tartışma olarak ayrı bir özellik gösterir. </a:t>
            </a:r>
            <a:endParaRPr b="0" lang="en-US" sz="2400" spc="-1" strike="noStrike">
              <a:solidFill>
                <a:srgbClr val="ffffff"/>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ildiriler, genellikle yayımlanan bir yazı türüdür. Bazen yabancı dillerde de yayımlanabilir.</a:t>
            </a:r>
            <a:endParaRPr b="0" lang="en-US" sz="2400" spc="-1" strike="noStrike">
              <a:solidFill>
                <a:srgbClr val="ffffff"/>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ildiriler hazırlanırken kullanılan dil, uzmanlık dalının gerektirdiği terimler ve ifade yapısı ile de konferanstan büyük ölçüde farklılık gösterir.</a:t>
            </a:r>
            <a:endParaRPr b="0" lang="en-US" sz="2400" spc="-1" strike="noStrike">
              <a:solidFill>
                <a:srgbClr val="ffffff"/>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olarak, bildiride varılan sonuçlar ve ana noktalar özetlenerek ana düşünce bir kez daha vurgulanmalıdır.</a:t>
            </a:r>
            <a:endParaRPr b="0" lang="en-US" sz="2400" spc="-1" strike="noStrike">
              <a:solidFill>
                <a:srgbClr val="ffffff"/>
              </a:solidFill>
              <a:latin typeface="Verdan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Üzerinde çalışılan metin; aralıklarla gözden geçirilmeli ve gerekli düzeltmeler yapılmalı, konuya hakimiyet sağlanmalıdır. Metnin, kartlara aktarılması daha yararlıdır.</a:t>
            </a:r>
            <a:br>
              <a:rPr sz="2400"/>
            </a:b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9:47:28Z</dcterms:created>
  <dc:creator>user</dc:creator>
  <dc:description/>
  <dc:language>en-US</dc:language>
  <cp:lastModifiedBy>user</cp:lastModifiedBy>
  <dcterms:modified xsi:type="dcterms:W3CDTF">2009-03-22T19:54:16Z</dcterms:modified>
  <cp:revision>2</cp:revision>
  <dc:subject/>
  <dc:title>SEMPOZYUM</dc:title>
</cp:coreProperties>
</file>