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5.gif" ContentType="image/gif"/>
  <Override PartName="/ppt/media/image35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BFD-B307-4F69-A3FC-E2EFD7AB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EB-84F5-409B-9977-FF1F578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D58-2236-4C1F-8DBB-4650C085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53A-F198-4ABA-A4CE-1BEDF364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DAA60-8102-467A-91AD-24675547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53378-B8C5-47B6-8777-473D5E1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051E6-B6BA-48F4-A6AB-9A84A5B2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5E6AD-9703-40A8-BD10-258DE5F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09FA-6839-48B9-B80F-46F9753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8B272-57BE-4B37-A197-D812BA2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20E5-E11B-4C0E-B09E-587375F1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CEF-6E0D-4BC1-9462-646E135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483D-97DA-4EEF-ADAA-482CE50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6CF7-041A-401B-BA84-7585AE8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5991-7111-4230-8D19-FEDBC2E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7F788-97F9-4EA2-B157-9113AB0B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3A5C2-C58D-4FE9-B1A0-BAE110A1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93A-3309-4F46-8526-B00FE536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9BE-A141-4F8A-8018-D330913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433-D507-417F-9CF6-6AA8DA7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36D-3F81-4F41-AD56-A62A644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B2C-A057-4E38-8B0C-2609808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9E9-09A6-4C89-8BD9-2ACA479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726-0C3B-4F05-997F-D503FA1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290E-11EF-4684-A963-E63DB148F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8F0-9684-4AAE-9317-B8DA7ECE1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EVGİ NEDİR 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61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RİFE CEY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Çünkü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" türü sevgi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oyotome bu tür sevgiyi şöyle tarif ediy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"Bu tür sevgide kişi, bir şey olduğu, bir şeye sahip olduğu ya da bir şey yaptığı için sevilir. Başka birinin onu sevmesi, sahip olduğu bir niteliğe ya da koşula bağlıdır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1175400">
            <a:off x="5866920" y="364500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0310600"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rnek mi?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Seni seviyorum; çünkü çok güzelsin. (Yakışıklısın!)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eni seviyorum; çünkü o kadar popüler, o kadar zengin, o kadar ünlüsün ki.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eni seviyorum; çünkü bana o kadar güven veriyorsun ki.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eni seviyorum; çünkü beni üstü açık arabanla, o kadar romantik yerlere götürüyorsun ki..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80360" y="4149720"/>
            <a:ext cx="1763640" cy="215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11736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 Yazar, Çünkü türü sevginin, Eğer türü sevgiye tercih edileceğini anlat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ğer türü sevgi, bir beklenti koşuluna bağlı olduğundan büyük ve ağır bir yük haline gelebil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ysa zaten sahip olduğumuz bir nitelik yüzünden sevilmemiz, hoş bir şeydir, egomuzu okş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tür, olduğumuz gibi sevilmektir. İnsanlar oldukları gibi sevilmeyi tercih ederler. Bu tür sevgi onlara yük getirmediği için rahatlatıcıdı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67640" y="2124000"/>
            <a:ext cx="1476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 derin düşünürseniz; bu türün, "Eğer" türünden temelde pek farklı olmadığını görürsünüz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dı ki, bu tür sevgi de, yükler getirir insana.. İnsanlar hep daha çok insan tarafından sevilmek isterl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ranlarına yenilerini eklemek için çabalarlar. Sevilecek niteliklere onlardan biraz daha fazla sahip biri ortaya çıktığı zaman, sevenlerinin, artık ötekini sevmeye başlayacağından korkar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ilenin en küçük kızı yeni doğan bebeğe içer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ın en güzel kızı, yeni gelen kıza içerl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ü açık BMW'si ile hava atan delikanlı, Ferrari ile gelene içerl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vli kadın kocasının genç 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zel sekreterine içerl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16720" y="4869000"/>
            <a:ext cx="1727280" cy="163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"O zaman bu tür sevgi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üven duygusu bulunabilir mi?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diye soruyor, Toyotome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17571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Çünkü “ türü sevgi d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ç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ğl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gi olamaz" d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88000" y="3254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tür sevgi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üven duygusu vermeyişi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i ayrı nedeni daha va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04000" y="3781440"/>
            <a:ext cx="1728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Acaba bizi seven kişinin düşündüğü kişi miyiz?" korkusu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üm insanların iki yanı vardır. Biri dışa gösterdikleri.. Öteki yalnızca kendilerinin bildiğ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kincisi de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Ya günün birinde değişirsem ve insanlar beni sevmez olurlarsa.." endişesid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380360" y="2276640"/>
            <a:ext cx="143964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onya'da bir temizleyicide çalışan dünya güzeli kızın yüzü, patlayan kazanla parçalanmış. Yüzü fena halde çirkinleşince, nişanlısı nişanı bozup onu terk etmiş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ha acısı.. Aynı kentte oturan anne ve babası, hastaneye ziyarete bile gelmemişler, artık çirkin olan kızlarını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hip olduğu sevgi, sahip olduğu güzellik temeli üstüne bina edilmiş olduğundan bir günde yok olmuş. Güzellik kalmayınca sevgi de kalmamış. Kız birkaç ay sonra kahrından ölmüş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24720" y="1484280"/>
            <a:ext cx="1619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vgi Üç Türlüdü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sumi Toyotome diye bir Japon yazmış. "Dünyada sevilmek istenmeyen kişi yok gibidir" diye başlıyor yazısı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4724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on yazar "Toplumlardaki sevgilerin çoğu 'Çünkü' türündendir ve bu tür sevgi, kalıcılığı konusunda insanı hep kuşkuya düşürür" diyo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516720" y="3860640"/>
            <a:ext cx="187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i o zaman, gerçek sevg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üvenilecek sevgi ne?..“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 işte sevgilerin en gerçeği!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2297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çüncü tür sevgi ben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'Rağmen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ye adlandırdığım türdür.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yor yaz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00080" cy="1900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164360" y="4430880"/>
            <a:ext cx="1655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üçüncü tür sevgide, ins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Bir şey olduğu için" değil,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Bir şey olmasına rağmen" sevil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üzelliğe bakar mısınız?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ğmen sevgi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2051280" cy="205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840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 koşula bağlı olmadığı için ve karşılığında bir şey beklenmediği için "Eğer" türü sevgiden farklı bu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ilen kişinin çekici bir niteliğine dayanıp, böyle bir şeyin varlığını esas olarak almadığı için "Çünkü" türü sevgi de değ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ada insanın  iyi, çekici ya da zengin konum edinerek sevgiyi kazanması gerekm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surlarına, cahilliğine, kötü huylarına ya da kötü geçmişine "rağmen" olduğu gibi, o haliyle sevilebil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ütünüyle çok değersiz biri gibi görünebiliyor ama en değerli gibi sevilebil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64360" y="4797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on yaz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Yüreklerin en çok susadığı sevgi budur." diyor. "Farkında olsanız da  olmasanız da, bu tür sevgi sizin için yiyecek, içecek, giysi, ev, aile, zenginlik, başarı ya da ünden daha önemlidir."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un böyle olduğundan nasıl emin, haklı olduğunu kanıtlamak için sizi bir teste davet ediyo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Şu soruma cevap verin" d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Kalbinizin derinliklerinde, dünyada kimsenin size aldırmadığını ve hiç kimsenin sizi sevmediğini düşünseydiniz; yiyecek, elbise, ev, aile, zenginlik, başarı ve üne olan ilginizi yitirmez miydiniz?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di kendi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Yaşamamın ne yararı var'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ye sormaz mıydınız?.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164360" y="321300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Şu anda en sevdiğiniz kişinin sizi sadece kendi çıkarı için sevdiğini anladığınızı bir düşünün.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ünya birden bire başınızın üstüne çökmez miy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an yaşam size anlamsız gelmez miydi?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Bugün yaşamınızı sürdürebilmenizin nedeni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Rağmen' türü sevgiyi şu anda yaşamanız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 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 gün bu sevgiyi bulacağınıza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ncınızdır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516720" y="356724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"Ama sevgi nedir, nerede bulunur, biliyor muyuz?" diye soruyo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ra anlatmaya başlıy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evgi üç türlüdür!.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incinin adı "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ğ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 türü sevgi!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i beklentileri karşılarsak, bize verilecek sevgiye bu adı takmış yaza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22334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i bu dünyada sevgi ne kadar var?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zara göre, açlığımızı biraz bastıracak kada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780000" y="3357720"/>
            <a:ext cx="1342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ünyadaki en büyük kıtlık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rağmen'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ürü sevginin yeterince olmayışıdır!.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32720" y="213372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rnekler veriy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er iyi olursan baban, annen seni s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er başarılı ve önemli kişi olursan, seni sever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er eş olarak benim beklentilerimi karşılarsan seni sever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oyotome "En çok rastlanan sevgi türü budur." diyor. Bir şarta bağlı sevgi.. Karşılık bekleyen sevgi.. "Sevenin,istediği bir şeyin sağlanması karşılığı olarak vaat edilen bir sevgi türüdür bu." diyor yaza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451640" y="1844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537372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Nedeni ve şekli bakımından bencild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cı sevgi;  karşılığı bir şey kazanmaktır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zara göre evliliklerin pek çoğu "Eğer" türü sevgi üzerine kurulduğu için çabuk yıkıl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çler birbirlerinin o anki gerçek hallerine değil, hayallerindeki abartılmış romantik görüntüsüne aşık oluyor ve beklentilere giriyor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klentiler gerçekleşmediğinde de, düş kırıklıkları başl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4683240"/>
            <a:ext cx="16192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saf olması gereken anne baba sevgisinde bile "Eğer" türüne rastlan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3537000"/>
            <a:ext cx="2297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912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284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zar bir örnek ver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genç Tokyo Üniversitesi giriş sınavlarını kazanarak babasını mutlu etmek için, çok çalış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kul dışında, hazırlama kurslarına da gidiyor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ma başarılı olamıyor. Babasının yüzüne bakacak hali y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züntüsünü hafifletmek için bir haftalığına Hakone kaplıcalarına gid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956720" y="162864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59640" y="49150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ve döndüğünde babası öfkeyl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"Sınavları kazanamadın. Bir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tanmadan Hakone'ye gittin!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iye bağırı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likanlı:  "Ama baba, vakt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n de bir ara kendini iyi hissetmediğinde Hakone kaplıcalarına gittiğini anlatmıştın." d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ba daha çok kızarak, delikanlıyı tokatlıyor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cuk da intihar ediy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84720" y="225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Gazeteler intiharın anlık bir sinir krizi sonucu olduğunu söylediler, yanılıyorlardı." diyor yazar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elikanlı babasının kendisine olan sevgisinin yüksek düzeydeki beklentilerine bağlı olduğunu anlamıştı!.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lginç değil mi?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kinci türe geçiyoruz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1588200">
            <a:off x="6732360" y="3645000"/>
            <a:ext cx="1769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58:50Z</dcterms:created>
  <dc:creator>Zarifee</dc:creator>
  <dc:description/>
  <dc:language>en-US</dc:language>
  <cp:lastModifiedBy>Zarifee</cp:lastModifiedBy>
  <dcterms:modified xsi:type="dcterms:W3CDTF">2007-11-11T07:23:46Z</dcterms:modified>
  <cp:revision>4</cp:revision>
  <dc:subject/>
  <dc:title>Slayt 1</dc:title>
</cp:coreProperties>
</file>