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7D85A19-BC83-4B93-B797-DE755278BB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40CCCE-B5D3-4C17-A1DD-7014C3956D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65A8320-C0CF-4815-BB49-BCC10D22B2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508D92-BB43-4759-8858-69B529C146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C94F1D-92C4-481B-A516-CDFFDB978A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0EAD5A-A951-45B6-B1ED-0CC8D909B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95B56-826E-4913-8E8D-8C4569E40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D44EC-7E70-48A8-BD68-99A25A62C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9FDC56-DB41-4030-A393-8C481DF68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613EF-41CF-4216-B54F-E883C5DF9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3C391-5A12-4294-B3E2-C35193FB7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6E6F38-8E79-4AF2-BEEF-22894B8A38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0EAFD-C4B6-4E0B-AD37-8E98A2862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48C51-8B72-4BFF-A921-2F6FE78BC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ED8052-EF95-491F-B547-BBEAC0FE80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01B06E-D8AA-43BB-A7B7-C13AEBB274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345BDD-6982-41B7-85EC-8822D9EC3F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7B81C1-D9A1-4E12-A9CE-2BCDF8C496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8FC22C-BDD3-4E34-AEE4-1FEA5BDEF4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F8FA02-8F8D-4211-9DEA-09E1030FD8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D70005-057C-4F86-8D7F-9C91F6D63A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CF07D9-B992-456F-AB2B-0D6682508E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9020C7-2C1F-4FE9-AEA6-E71B7F8485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6498B8-1DB9-41C7-9751-6ECD9C07C0C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CC5D5-5B48-4502-B495-220CA22EC620}"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67C59-2CEE-4BB2-9294-D67F11B150B0}"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323640" y="259920"/>
            <a:ext cx="8280360" cy="6193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ahoma"/>
            </a:endParaRPr>
          </a:p>
        </p:txBody>
      </p:sp>
      <p:sp>
        <p:nvSpPr>
          <p:cNvPr id="127" name=""/>
          <p:cNvSpPr/>
          <p:nvPr/>
        </p:nvSpPr>
        <p:spPr>
          <a:xfrm>
            <a:off x="4119480" y="373212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684360" y="836640"/>
            <a:ext cx="770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048200" y="3011400"/>
            <a:ext cx="2755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755640" y="1916280"/>
            <a:ext cx="71215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2400" spc="-1" strike="noStrike">
                <a:solidFill>
                  <a:srgbClr val="ffffff"/>
                </a:solidFill>
                <a:latin typeface="Tahoma"/>
              </a:rPr>
              <a:t>KASTAMON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                </a:t>
            </a:r>
            <a:r>
              <a:rPr b="0" lang="tr-TR" sz="2400" spc="-1" strike="noStrike">
                <a:solidFill>
                  <a:srgbClr val="ffffff"/>
                </a:solidFill>
                <a:latin typeface="Tahoma"/>
              </a:rPr>
              <a:t>ARAÇ İMAM-HATİP LİSESİ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                      </a:t>
            </a:r>
            <a:r>
              <a:rPr b="0" lang="tr-TR" sz="2400" spc="-1" strike="noStrike">
                <a:solidFill>
                  <a:srgbClr val="ffffff"/>
                </a:solidFill>
                <a:latin typeface="Tahoma"/>
              </a:rPr>
              <a:t>KADİR UĞURL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       </a:t>
            </a:r>
            <a:r>
              <a:rPr b="0" lang="tr-TR" sz="2400" spc="-1" strike="noStrike">
                <a:solidFill>
                  <a:srgbClr val="ffffff"/>
                </a:solidFill>
                <a:latin typeface="Tahoma"/>
              </a:rPr>
              <a:t>TÜRK DİLİ VE EDEBİYATI ÖĞRETMENİ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           </a:t>
            </a:r>
            <a:r>
              <a:rPr b="0" lang="tr-TR" sz="2400" spc="-1" strike="noStrike">
                <a:solidFill>
                  <a:srgbClr val="ffffff"/>
                </a:solidFill>
                <a:latin typeface="Tahoma"/>
              </a:rPr>
              <a:t>(</a:t>
            </a:r>
            <a:r>
              <a:rPr b="1" lang="tr-TR" sz="2400" spc="-1" strike="noStrike">
                <a:solidFill>
                  <a:srgbClr val="ebf25a"/>
                </a:solidFill>
                <a:latin typeface="Tahoma"/>
              </a:rPr>
              <a:t>Öss - Test Çözme Teknikler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fontScale="99000"/>
          </a:bodyPr>
          <a:p>
            <a:pPr marL="339480" indent="-339480">
              <a:lnSpc>
                <a:spcPct val="80000"/>
              </a:lnSpc>
              <a:spcBef>
                <a:spcPts val="55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Tahoma"/>
              </a:rPr>
              <a:t>Hayatta yapabileceğiniz en büyük hata, sürekli bir hata daha yapacağımız korkusudur. </a:t>
            </a:r>
            <a:br>
              <a:rPr sz="2200"/>
            </a:br>
            <a:r>
              <a:rPr b="0" lang="tr-TR" sz="2200" spc="-1" strike="noStrike">
                <a:solidFill>
                  <a:srgbClr val="ffffff"/>
                </a:solidFill>
                <a:latin typeface="Tahoma"/>
              </a:rPr>
              <a:t>Albert Hubbard </a:t>
            </a:r>
            <a:endParaRPr b="0" lang="en-US" sz="2200" spc="-1" strike="noStrike">
              <a:solidFill>
                <a:srgbClr val="ffffff"/>
              </a:solidFill>
              <a:latin typeface="Tahoma"/>
            </a:endParaRPr>
          </a:p>
          <a:p>
            <a:pPr marL="339480" indent="-339480">
              <a:lnSpc>
                <a:spcPct val="80000"/>
              </a:lnSpc>
              <a:spcBef>
                <a:spcPts val="55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Tahoma"/>
              </a:rPr>
              <a:t>Unutmayın; bizi en çok geliştirecek olan şey yaptığımız yanlışlar; test çözdükten sonra ya da deneme sınavından sonra yaptığınız yanlışlardan dolayı moralinizi bozup soru kitapçığını fırlatırsanız ya da sinirlenip yanlışlarınızı değerlendirmezseniz boşu boşuna soru çözüp zaman kaybetmiş olursunuz... </a:t>
            </a:r>
            <a:endParaRPr b="0" lang="en-US" sz="2200" spc="-1" strike="noStrike">
              <a:solidFill>
                <a:srgbClr val="ffffff"/>
              </a:solidFill>
              <a:latin typeface="Tahoma"/>
            </a:endParaRPr>
          </a:p>
          <a:p>
            <a:pPr marL="339480" indent="-339480">
              <a:lnSpc>
                <a:spcPct val="80000"/>
              </a:lnSpc>
              <a:spcBef>
                <a:spcPts val="55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Tahoma"/>
              </a:rPr>
              <a:t> </a:t>
            </a:r>
            <a:r>
              <a:rPr b="0" lang="tr-TR" sz="2200" spc="-1" strike="noStrike">
                <a:solidFill>
                  <a:srgbClr val="ffffff"/>
                </a:solidFill>
                <a:latin typeface="Tahoma"/>
              </a:rPr>
              <a:t>Evde test çözerken ya da deneme sınavlarından sonra yaptığınız yanlışların tek tek tespit edilip değerlendirilmelisiniz. </a:t>
            </a:r>
            <a:endParaRPr b="0" lang="en-US" sz="2200" spc="-1" strike="noStrike">
              <a:solidFill>
                <a:srgbClr val="ffffff"/>
              </a:solidFill>
              <a:latin typeface="Tahoma"/>
            </a:endParaRPr>
          </a:p>
          <a:p>
            <a:pPr marL="339480" indent="-339480">
              <a:lnSpc>
                <a:spcPct val="80000"/>
              </a:lnSpc>
              <a:spcBef>
                <a:spcPts val="55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Tahoma"/>
              </a:rPr>
              <a:t>Yaptığınız yanlışları tek tek değerlendirin ve hatalarınızı gruplayın.</a:t>
            </a:r>
            <a:endParaRPr b="0" lang="en-US" sz="2200" spc="-1" strike="noStrike">
              <a:solidFill>
                <a:srgbClr val="ffffff"/>
              </a:solidFill>
              <a:latin typeface="Tahoma"/>
            </a:endParaRPr>
          </a:p>
          <a:p>
            <a:pPr marL="339480" indent="-339480">
              <a:lnSpc>
                <a:spcPct val="80000"/>
              </a:lnSpc>
              <a:spcBef>
                <a:spcPts val="55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Tahoma"/>
              </a:rPr>
              <a:t> </a:t>
            </a:r>
            <a:r>
              <a:rPr b="0" lang="tr-TR" sz="2200" spc="-1" strike="noStrike">
                <a:solidFill>
                  <a:srgbClr val="ffffff"/>
                </a:solidFill>
                <a:latin typeface="Tahoma"/>
              </a:rPr>
              <a:t>Örneğin "8. soruyu dikkat eksikliğinden kaçırmışım. 15.soruyu konuyu bilmediğim için; 20.soruyu yanlış yapmamın sebebi ise konuyu bildiğim halde yeterince soru çözmememden kaynaklanmış" şeklinde gruplayın... Bu gruplamadan sonra belirlediğiniz problemlere çözümler geliştirin. </a:t>
            </a:r>
            <a:endParaRPr b="0" lang="en-US" sz="2200" spc="-1" strike="noStrike">
              <a:solidFill>
                <a:srgbClr val="ffffff"/>
              </a:solidFill>
              <a:latin typeface="Tahoma"/>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0"/>
            <a:ext cx="8229600" cy="6130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Örneğin dikkatsizlikten soru kaçırmışsanız kendinize "bundan sonra demek ki daha dikkatli olmalıyım" yönünde telkin verin. </a:t>
            </a:r>
            <a:endParaRPr b="0" lang="en-US" sz="2400" spc="-1" strike="noStrike">
              <a:solidFill>
                <a:srgbClr val="ffffff"/>
              </a:solidFill>
              <a:latin typeface="Tahoma"/>
            </a:endParaRPr>
          </a:p>
          <a:p>
            <a:pPr marL="318960" indent="-31896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Eğer konuyu bilmenize rağmen yeteri kadar soru çözmediğiniz için yaptığınız yanlışlar varsa hemen aynı gün açın kitabı o konudan soru çözüp eksiğinizi kapatın... </a:t>
            </a:r>
            <a:endParaRPr b="0" lang="en-US" sz="2400" spc="-1" strike="noStrike">
              <a:solidFill>
                <a:srgbClr val="ffffff"/>
              </a:solidFill>
              <a:latin typeface="Tahoma"/>
            </a:endParaRPr>
          </a:p>
          <a:p>
            <a:pPr marL="318960" indent="-31896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 </a:t>
            </a:r>
            <a:r>
              <a:rPr b="0" lang="tr-TR" sz="2400" spc="-1" strike="noStrike">
                <a:solidFill>
                  <a:srgbClr val="ffffff"/>
                </a:solidFill>
                <a:latin typeface="Tahoma"/>
              </a:rPr>
              <a:t>Yanlış yaptığınızda moralinizi bozup sinirlenmek yerine sevinmelisiniz. </a:t>
            </a:r>
            <a:endParaRPr b="0" lang="en-US" sz="2400" spc="-1" strike="noStrike">
              <a:solidFill>
                <a:srgbClr val="ffffff"/>
              </a:solidFill>
              <a:latin typeface="Tahoma"/>
            </a:endParaRPr>
          </a:p>
          <a:p>
            <a:pPr marL="318960" indent="-31896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Çünkü o yanlış yaptığınız soru gerçek sınavda karşınıza çıkabilirdi, </a:t>
            </a:r>
            <a:endParaRPr b="0" lang="en-US" sz="2400" spc="-1" strike="noStrike">
              <a:solidFill>
                <a:srgbClr val="ffffff"/>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Oysa siz o soru sınavda karşınıza çıkmadan önce o soruyu buldunuz, yanlış çözdünüz daha sonra da neden yanlış yaptığınızı belirleyip doğrusunu öğrendiniz; artık o soru ya da ona benzer sorularla karşılaşırsanız bunları doğru yapacaksınız. Bundan daha güzel bir şey olabilir mi? </a:t>
            </a:r>
            <a:endParaRPr b="0" lang="en-US" sz="2400" spc="-1" strike="noStrike">
              <a:solidFill>
                <a:srgbClr val="ffffff"/>
              </a:solidFill>
              <a:latin typeface="Tahoma"/>
            </a:endParaRPr>
          </a:p>
          <a:p>
            <a:pPr marL="318960" indent="-31896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Unutmayın bizi bir adım öne taşıyacak yanlışlarımız… </a:t>
            </a:r>
            <a:br>
              <a:rPr sz="2400"/>
            </a:br>
            <a:br>
              <a:rPr sz="2400"/>
            </a:br>
            <a:r>
              <a:rPr b="0" lang="tr-TR"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f25a"/>
                </a:solidFill>
                <a:latin typeface="Tahoma"/>
              </a:rPr>
              <a:t>                    </a:t>
            </a:r>
            <a:r>
              <a:rPr b="0" lang="en-US" sz="2000" spc="-1" strike="noStrike">
                <a:solidFill>
                  <a:srgbClr val="ebf25a"/>
                </a:solidFill>
                <a:latin typeface="Tahoma"/>
              </a:rPr>
              <a:t>Sınav esnasında yapmanız gerekenler; </a:t>
            </a:r>
            <a:br>
              <a:rPr sz="2000"/>
            </a:b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r testte bilgi seviyesinin altında ve üstünde sorularla karşılaşabiliriz. ÖSYS’nin belirli bir sistemi vardır ve sorular her yıl aynı sistemde kolaylık ve zorluk derecesindedir. </a:t>
            </a:r>
            <a:br>
              <a:rPr sz="2000"/>
            </a:b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u çok kolay </a:t>
            </a:r>
            <a:br>
              <a:rPr sz="2000"/>
            </a:br>
            <a:br>
              <a:rPr sz="2000"/>
            </a:br>
            <a:r>
              <a:rPr b="0" lang="en-US" sz="2000" spc="-1" strike="noStrike">
                <a:solidFill>
                  <a:srgbClr val="ffffff"/>
                </a:solidFill>
                <a:latin typeface="Tahoma"/>
              </a:rPr>
              <a:t>%20’si kolay </a:t>
            </a:r>
            <a:br>
              <a:rPr sz="2000"/>
            </a:br>
            <a:br>
              <a:rPr sz="2000"/>
            </a:br>
            <a:r>
              <a:rPr b="0" lang="en-US" sz="2000" spc="-1" strike="noStrike">
                <a:solidFill>
                  <a:srgbClr val="ffffff"/>
                </a:solidFill>
                <a:latin typeface="Tahoma"/>
              </a:rPr>
              <a:t>%40’u normal </a:t>
            </a:r>
            <a:br>
              <a:rPr sz="2000"/>
            </a:br>
            <a:br>
              <a:rPr sz="2000"/>
            </a:br>
            <a:r>
              <a:rPr b="0" lang="en-US" sz="2000" spc="-1" strike="noStrike">
                <a:solidFill>
                  <a:srgbClr val="ffffff"/>
                </a:solidFill>
                <a:latin typeface="Tahoma"/>
              </a:rPr>
              <a:t>%20’si zor </a:t>
            </a:r>
            <a:br>
              <a:rPr sz="2000"/>
            </a:br>
            <a:br>
              <a:rPr sz="2000"/>
            </a:br>
            <a:r>
              <a:rPr b="0" lang="en-US" sz="2000" spc="-1" strike="noStrike">
                <a:solidFill>
                  <a:srgbClr val="ffffff"/>
                </a:solidFill>
                <a:latin typeface="Tahoma"/>
              </a:rPr>
              <a:t>%10’u çok zor </a:t>
            </a:r>
            <a:br>
              <a:rPr sz="2000"/>
            </a:b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lgi seviyesindedir. Yani bu sene sınav çok zor olacakmış veya çok kolay olacakmış şeklindeki söylentilere inanmak çok yanlış olur çünkü her sene sınav aynı zorluk veya kolaylık derecesinde olmaktadır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95280" y="189000"/>
            <a:ext cx="8229600" cy="6192720"/>
          </a:xfrm>
          <a:prstGeom prst="rect">
            <a:avLst/>
          </a:prstGeom>
          <a:noFill/>
          <a:ln w="0">
            <a:noFill/>
          </a:ln>
        </p:spPr>
        <p:txBody>
          <a:bodyPr lIns="90000" rIns="90000" tIns="46800" bIns="46800" anchor="t">
            <a:normAutofit/>
          </a:bodyPr>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r sorunun kendine has bir mantığı vardır. Test çözerken kendi mantığınızla değil, sorunun mantığına göre hareket etmemiz gerekir.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Soru çözerken soru köklerini çok iyi okumalı, soruda ne istediğini anlamalısınız. Ancak soruyu çok fazla okuyarak zihninizi de karıştırmayı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Soruyu çözmenizi sağlayacak soru metninde yer alan önemli kelimelerin altını çizi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ru kökünü ve soru paragrafını anlamadan şıkları okumaya başlamayı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Önce size verilenleri ve sizden istenenleri iyi belirleyin. Bu sizin cevabı daha kısa sürede ve daha doğru bir şekilde bulmanızı sağlayacaktır.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ru köklerinin olumlu ve olumsuz olmasına dikkat edin.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68360" y="404640"/>
            <a:ext cx="8229600" cy="561024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ütün şıkları okumadan doğru olduğuna inandığınız şıkkı işaretlemeyin. </a:t>
            </a:r>
            <a:endParaRPr b="0" lang="en-US" sz="1800" spc="-1" strike="noStrike">
              <a:solidFill>
                <a:srgbClr val="ffffff"/>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Çünkü bazı sorular sizden en doğru cevabı bulmanızı ister. </a:t>
            </a:r>
            <a:endParaRPr b="0" lang="en-US" sz="1800" spc="-1" strike="noStrike">
              <a:solidFill>
                <a:srgbClr val="ffffff"/>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Bazen 4 yanlışı bulmak bir doğruyu bulmaktan daha kolaydır. Yanlış şıkları eleyerek doğru cevaba ulaşabilirsiniz.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ınavda en çok yapılan yanlışlardan biride sorulara önyargılı yaklaşmamızdır.</a:t>
            </a:r>
            <a:endParaRPr b="0" lang="en-US" sz="1800" spc="-1" strike="noStrike">
              <a:solidFill>
                <a:srgbClr val="ffffff"/>
              </a:solidFill>
              <a:latin typeface="Tahoma"/>
            </a:endParaRPr>
          </a:p>
          <a:p>
            <a:pPr marL="339480" indent="-3394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esela, “Bu soru zor ben yapamam; bu soru kolay cevap A şıkkı!” gibi zaman kazanmak için yaptığımız aceleci davranışlar bize zaman kazandırmak yerine zaman kaybettirir.</a:t>
            </a:r>
            <a:endParaRPr b="0" lang="en-US" sz="1800" spc="-1" strike="noStrike">
              <a:solidFill>
                <a:srgbClr val="ffffff"/>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ki cevap da birbirine benziyorsa, cevap, büyük ihtimalle ikisi de değildir. İki şık birbirinin zıttaysa, bunlardan biri doğrudur. </a:t>
            </a:r>
            <a:br>
              <a:rPr sz="1800"/>
            </a:br>
            <a:br>
              <a:rPr sz="1800"/>
            </a:br>
            <a:r>
              <a:rPr b="0" lang="en-US" sz="1800" spc="-1" strike="noStrike">
                <a:solidFill>
                  <a:srgbClr val="ffffff"/>
                </a:solidFill>
                <a:latin typeface="Tahoma"/>
              </a:rPr>
              <a:t> </a:t>
            </a:r>
            <a:endParaRPr b="0" lang="en-US" sz="1800" spc="-1" strike="noStrike">
              <a:solidFill>
                <a:srgbClr val="ffffff"/>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549000"/>
            <a:ext cx="8229600" cy="6048360"/>
          </a:xfrm>
          <a:prstGeom prst="rect">
            <a:avLst/>
          </a:prstGeom>
          <a:noFill/>
          <a:ln w="0">
            <a:noFill/>
          </a:ln>
        </p:spPr>
        <p:txBody>
          <a:bodyPr lIns="90000" rIns="90000" tIns="46800" bIns="46800" anchor="t">
            <a:normAutofit/>
          </a:bodyPr>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Yanlış olduğuna kesin emin olmadıkça, ilk tahminde bulunduğunuz cevabınızı değiştirmeyin.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eme yapılan şıklar arasında ilk akla gelen şıkkın doğru olma olasılığı yüksektir. </a:t>
            </a: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Doğru cevaba daha kısa sürede ulaşmak istiyorsanız yanlış olduğuna inandığınız şıkları hemen eleyin. Kalan şıklar üzerine düşünü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st çözerken sorunun doğru cevabını bulmak kadar yanlış olan şıkkı bulmak da çok önemlidir.</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Bu bize alternatifleri daha netleştirir ve doğru şıkka ulaşma şansımız daha da arttırır. </a:t>
            </a: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Dört yanlışın bir doğruyu götürdüğünü kesinlikle unutmayın.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Hiçbir bilginizin olmadığı soruları boş bırakma alışkanlığını kazanmalısınız.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ğru çözdüğünüzden emin olmadığınız soru ve sorular varsa o soruyu hemen çözmek yerine birkaç tane soru çözdükten sonra bakın. </a:t>
            </a:r>
            <a:br>
              <a:rPr sz="2000"/>
            </a:br>
            <a:br>
              <a:rPr sz="2000"/>
            </a:b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Uzun paragraftan oluşan soruları “uzun soru zordur” yargısında bulunarak o soruyu okumadan geçmeyin.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ragraf sorularının en önemli özelliği cevabının paragrafın içinde gizli olmasıdı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Sınav esnasında bazı sorular hakkında olumsuz yargılara sahip olmamız o soruyu çözmemizi zorlaştırır.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Özellikle Türkçe testinin paragraf sorularına yargıyla yaklaşılır.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Soru kökünün veya metninin uzun oluşu bizim için daha fazla ipucu demektir.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Bu nedenle uzun metinli sorular aslında daha kolay çözülebilen sorulardır. Yani bu konuda önyargılı olmamamız gereklidir.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 </a:t>
            </a:r>
            <a:r>
              <a:rPr b="0" lang="tr-TR" sz="2000" spc="-1" strike="noStrike">
                <a:solidFill>
                  <a:srgbClr val="ffffff"/>
                </a:solidFill>
                <a:latin typeface="Tahoma"/>
              </a:rPr>
              <a:t>Paragraf sorularında önce soru kökünü okursanız paragrafı daha kolay ve kısa sürede anlarsınız.</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 </a:t>
            </a:r>
            <a:r>
              <a:rPr b="0" lang="tr-TR" sz="2000" spc="-1" strike="noStrike">
                <a:solidFill>
                  <a:srgbClr val="ffffff"/>
                </a:solidFill>
                <a:latin typeface="Tahoma"/>
              </a:rPr>
              <a:t>Bu ise soruyu daha çabuk çözeceğiniz anlamına gelir.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 </a:t>
            </a:r>
            <a:r>
              <a:rPr b="0" lang="tr-TR" sz="2000" spc="-1" strike="noStrike">
                <a:solidFill>
                  <a:srgbClr val="ffffff"/>
                </a:solidFill>
                <a:latin typeface="Tahoma"/>
              </a:rPr>
              <a:t>Paragraf sorularında öncelikle soruyu daha sonra paragrafı okursanız bu size parçada ne arayacağınız konusunda bir avantaj sağlayacaktır. </a:t>
            </a:r>
            <a:br>
              <a:rPr sz="2000"/>
            </a:br>
            <a:r>
              <a:rPr b="0" lang="tr-TR"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yısal sorularda işlemleri mutlaka kaleminizi kullanarak yapın.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lanınızla ilgili olan testlere daha fazla zaman ve dikkat harcayın. Asıl puanı bu bölümlerden alacağınızı unutmayın. </a:t>
            </a:r>
            <a:br>
              <a:rPr sz="3200"/>
            </a:b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ÖSYS’de yapılan en büyük hataların kaydırma, kodlama ve yanlış cevabı işaretleme gibi hatalar olduğu göz önünde bulundurulursa, çözdüğünüz her testte bu klasik hataları yapmamaya özen göstermelisiniz. </a:t>
            </a: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est çözümünde kodlama çok önemlidir. Soruyu kitapçık üzerinde çözmüş olmamız o soruyla işimizin bittiği anlamına gelmemelidir. </a:t>
            </a:r>
            <a:endParaRPr b="0" lang="en-US" sz="2400" spc="-1" strike="noStrike">
              <a:solidFill>
                <a:srgbClr val="ffffff"/>
              </a:solidFill>
              <a:latin typeface="Tahoma"/>
            </a:endParaRPr>
          </a:p>
          <a:p>
            <a:pPr marL="335880" indent="-3358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ruyu çözmek kadar optik formuna doğru bir şekilde kodlamak da önemlidir. </a:t>
            </a:r>
            <a:endParaRPr b="0" lang="en-US" sz="2400" spc="-1" strike="noStrike">
              <a:solidFill>
                <a:srgbClr val="ffffff"/>
              </a:solidFill>
              <a:latin typeface="Tahoma"/>
            </a:endParaRPr>
          </a:p>
          <a:p>
            <a:pPr marL="335880" indent="-3358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dlamayı en sona bırakmak çok yanlış bir tutumdur. </a:t>
            </a:r>
            <a:endParaRPr b="0" lang="en-US" sz="2400" spc="-1" strike="noStrike">
              <a:solidFill>
                <a:srgbClr val="ffffff"/>
              </a:solidFill>
              <a:latin typeface="Tahoma"/>
            </a:endParaRPr>
          </a:p>
          <a:p>
            <a:pPr marL="335880" indent="-3358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dlama her sorudan sonra yapılmalıdır. </a:t>
            </a:r>
            <a:r>
              <a:rPr b="0" lang="en-US" sz="2400" spc="-1" strike="noStrike">
                <a:solidFill>
                  <a:srgbClr val="ebf25a"/>
                </a:solidFill>
                <a:latin typeface="Tahoma"/>
              </a:rPr>
              <a:t>Kodlamayı sona bırakmak sınav sonrasında yorgunluk ve dikkat dağınıklığının en üst seviyede olması sebebiyle hatalı veya eksik kodlama riskini arttırır, kaydırma yapmanıza</a:t>
            </a:r>
            <a:r>
              <a:rPr b="0" lang="en-US" sz="2400" spc="-1" strike="noStrike">
                <a:solidFill>
                  <a:srgbClr val="ffffff"/>
                </a:solidFill>
                <a:latin typeface="Tahoma"/>
              </a:rPr>
              <a:t> yol aça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68360" y="404280"/>
            <a:ext cx="8229600" cy="568836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tekim her yıl %0,5 aday kaydırma nedeniyle mağdur olmaktadır.</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Sınav esnasında yanınızdaki, önünüzdeki ve çevrenizdeki öğrencilerin hangi testte olduğu, kaç soru cevapladığıyla ilgilenmemelisiniz.</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u sizin dikkatinizi dağıtacağı gibi moralinizi de bozacaktır. </a:t>
            </a:r>
            <a:br>
              <a:rPr sz="3200"/>
            </a:br>
            <a:br>
              <a:rPr sz="3200"/>
            </a:b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bf25a"/>
                </a:solidFill>
                <a:latin typeface="Tahoma"/>
              </a:rPr>
              <a:t>               </a:t>
            </a:r>
            <a:r>
              <a:rPr b="1" lang="tr-TR" sz="2400" spc="-1" strike="noStrike">
                <a:solidFill>
                  <a:srgbClr val="ebf25a"/>
                </a:solidFill>
                <a:latin typeface="Tahoma"/>
              </a:rPr>
              <a:t>Öss - Test Çözme Teknikleri</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 </a:t>
            </a:r>
            <a:r>
              <a:rPr b="0" lang="tr-TR" sz="2400" spc="-1" strike="noStrike">
                <a:solidFill>
                  <a:srgbClr val="ffffff"/>
                </a:solidFill>
                <a:latin typeface="Tahoma"/>
              </a:rPr>
              <a:t> </a:t>
            </a:r>
            <a:r>
              <a:rPr b="0" lang="tr-TR" sz="2400" spc="-1" strike="noStrike">
                <a:solidFill>
                  <a:srgbClr val="ffffff"/>
                </a:solidFill>
                <a:latin typeface="Tahoma"/>
              </a:rPr>
              <a:t>ÖSYS çok zorlu bir sınav olmakla birlikte aslında sistemi bilindiğinde kolaylıkla üstesinden gelinebilecek bir sınavdır.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Bu sınavda başarılı olmak için sadece çalışmak yeterli olmamakta, bunun için test çözme becerisi kazanmak gerekmektedir.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Çünkü bu sınava müracaat eden aday sayısı her geçen yıl artmakta kontenjanlarda bir değişiklik olmamaktadır. Yani kazanmak her yıl bir önceki yıla göre daha da zorlaşmaktadır.</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 </a:t>
            </a:r>
            <a:r>
              <a:rPr b="0" lang="tr-TR" sz="2400" spc="-1" strike="noStrike">
                <a:solidFill>
                  <a:srgbClr val="ffffff"/>
                </a:solidFill>
                <a:latin typeface="Tahoma"/>
              </a:rPr>
              <a:t>Bu zorluğun üstesinden gelmek için adayın sınavda yaptığı netlerin yüksek olması gerekir. </a:t>
            </a:r>
            <a:br>
              <a:rPr sz="2400"/>
            </a:br>
            <a:br>
              <a:rPr sz="2400"/>
            </a:br>
            <a:r>
              <a:rPr b="0" lang="tr-TR"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Her test çözümünde süre tutun ve teste başladığınız andan itibaren dış dünya ile iletişiminizi kesin.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ğer bunu başarabiliyorsanız sınava da konsantre olabiliriniz demektir.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Çok bilinen test çözme tekniklerini öğrenip sınavdan önce deneyerek sizin içi en etkili olan yöntemi sınavda kullanmalısınız.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Çok bilinen test tekniklerinden biri de turlama tekniğidir. Bu yöntem sayesinde soruların hepsini görme ve gözden geçirme şansımız oluyor.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evaplandırmadığımız soruların yanına bir işaret veya simge koyarsak o ikinci turda o soruları bulmak bizim için daha kolay olur. </a:t>
            </a: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 </a:t>
            </a:r>
            <a:r>
              <a:rPr b="0" lang="tr-TR" sz="2800" spc="-1" strike="noStrike">
                <a:solidFill>
                  <a:srgbClr val="ffffff"/>
                </a:solidFill>
                <a:latin typeface="Tahoma"/>
              </a:rPr>
              <a:t>Turlama tekniği kullanıldığında, tekrar başa dönüldüğünde zaman kaybetmemek için kitap üzerindeki soruların yanına kendilerine ait semboller kullanabilirler. </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ebf25a"/>
                </a:solidFill>
                <a:latin typeface="Tahoma"/>
              </a:rPr>
              <a:t>Bunlar;</a:t>
            </a:r>
            <a:r>
              <a:rPr b="0" lang="tr-TR" sz="2800" spc="-1" strike="noStrike">
                <a:solidFill>
                  <a:srgbClr val="ffffff"/>
                </a:solidFill>
                <a:latin typeface="Tahoma"/>
              </a:rPr>
              <a:t> </a:t>
            </a:r>
            <a:br>
              <a:rPr sz="2800"/>
            </a:br>
            <a:r>
              <a:rPr b="0" lang="tr-TR" sz="2800" spc="-1" strike="noStrike">
                <a:solidFill>
                  <a:srgbClr val="ffffff"/>
                </a:solidFill>
                <a:latin typeface="Tahoma"/>
              </a:rPr>
              <a:t>a- Cevabından emin olunan soruya </a:t>
            </a:r>
            <a:r>
              <a:rPr b="0" lang="tr-TR" sz="2800" spc="-1" strike="noStrike">
                <a:solidFill>
                  <a:srgbClr val="ebf25a"/>
                </a:solidFill>
                <a:latin typeface="Tahoma"/>
              </a:rPr>
              <a:t>X (çarpı)</a:t>
            </a:r>
            <a:r>
              <a:rPr b="0" lang="tr-TR" sz="2800" spc="-1" strike="noStrike">
                <a:solidFill>
                  <a:srgbClr val="ffffff"/>
                </a:solidFill>
                <a:latin typeface="Tahoma"/>
              </a:rPr>
              <a:t> işareti konulabilir. </a:t>
            </a:r>
            <a:r>
              <a:rPr b="0" lang="tr-TR" sz="2800" spc="-1" strike="noStrike">
                <a:solidFill>
                  <a:srgbClr val="ebf25a"/>
                </a:solidFill>
                <a:latin typeface="Tahoma"/>
              </a:rPr>
              <a:t>X 1.</a:t>
            </a:r>
            <a:r>
              <a:rPr b="0" lang="tr-TR" sz="2800" spc="-1" strike="noStrike">
                <a:solidFill>
                  <a:srgbClr val="ffffff"/>
                </a:solidFill>
                <a:latin typeface="Tahoma"/>
              </a:rPr>
              <a:t> </a:t>
            </a:r>
            <a:br>
              <a:rPr sz="2800"/>
            </a:br>
            <a:r>
              <a:rPr b="0" lang="tr-TR" sz="2800" spc="-1" strike="noStrike">
                <a:solidFill>
                  <a:srgbClr val="ffffff"/>
                </a:solidFill>
                <a:latin typeface="Tahoma"/>
              </a:rPr>
              <a:t>b- İki şıkka indirip de işaretlenmeyen soruya </a:t>
            </a:r>
            <a:r>
              <a:rPr b="0" lang="tr-TR" sz="2800" spc="-1" strike="noStrike">
                <a:solidFill>
                  <a:srgbClr val="ebf25a"/>
                </a:solidFill>
                <a:latin typeface="Tahoma"/>
              </a:rPr>
              <a:t>!(ünlem)</a:t>
            </a:r>
            <a:r>
              <a:rPr b="0" lang="tr-TR" sz="2800" spc="-1" strike="noStrike">
                <a:solidFill>
                  <a:srgbClr val="ffffff"/>
                </a:solidFill>
                <a:latin typeface="Tahoma"/>
              </a:rPr>
              <a:t> işareti konulabilir. </a:t>
            </a:r>
            <a:br>
              <a:rPr sz="2800"/>
            </a:br>
            <a:r>
              <a:rPr b="0" lang="tr-TR" sz="2800" spc="-1" strike="noStrike">
                <a:solidFill>
                  <a:srgbClr val="ffffff"/>
                </a:solidFill>
                <a:latin typeface="Tahoma"/>
              </a:rPr>
              <a:t>c- Zaman ayırırsam yaparım denilen soruya </a:t>
            </a:r>
            <a:r>
              <a:rPr b="0" lang="tr-TR" sz="2800" spc="-1" strike="noStrike">
                <a:solidFill>
                  <a:srgbClr val="ebf25a"/>
                </a:solidFill>
                <a:latin typeface="Tahoma"/>
              </a:rPr>
              <a:t>+</a:t>
            </a:r>
            <a:r>
              <a:rPr b="0" lang="tr-TR" sz="2800" spc="-1" strike="noStrike">
                <a:solidFill>
                  <a:srgbClr val="ffffff"/>
                </a:solidFill>
                <a:latin typeface="Tahoma"/>
              </a:rPr>
              <a:t> </a:t>
            </a:r>
            <a:r>
              <a:rPr b="0" lang="tr-TR" sz="2800" spc="-1" strike="noStrike">
                <a:solidFill>
                  <a:srgbClr val="ebf25a"/>
                </a:solidFill>
                <a:latin typeface="Tahoma"/>
              </a:rPr>
              <a:t>(artı)</a:t>
            </a:r>
            <a:r>
              <a:rPr b="0" lang="tr-TR" sz="2800" spc="-1" strike="noStrike">
                <a:solidFill>
                  <a:srgbClr val="ffffff"/>
                </a:solidFill>
                <a:latin typeface="Tahoma"/>
              </a:rPr>
              <a:t> işareti konulabilir. </a:t>
            </a:r>
            <a:br>
              <a:rPr sz="2800"/>
            </a:br>
            <a:r>
              <a:rPr b="0" lang="tr-TR" sz="2800" spc="-1" strike="noStrike">
                <a:solidFill>
                  <a:srgbClr val="ffffff"/>
                </a:solidFill>
                <a:latin typeface="Tahoma"/>
              </a:rPr>
              <a:t>d- Boş bırakıp döndüğümde tekrar bakarım denilen soruya </a:t>
            </a:r>
            <a:r>
              <a:rPr b="0" lang="tr-TR" sz="2800" spc="-1" strike="noStrike">
                <a:solidFill>
                  <a:srgbClr val="ebf25a"/>
                </a:solidFill>
                <a:latin typeface="Tahoma"/>
              </a:rPr>
              <a:t>daire</a:t>
            </a:r>
            <a:r>
              <a:rPr b="0" lang="tr-TR" sz="2800" spc="-1" strike="noStrike">
                <a:solidFill>
                  <a:srgbClr val="ffffff"/>
                </a:solidFill>
                <a:latin typeface="Tahoma"/>
              </a:rPr>
              <a:t> konulabilir. </a:t>
            </a:r>
            <a:br>
              <a:rPr sz="2800"/>
            </a:br>
            <a:r>
              <a:rPr b="0" lang="tr-TR" sz="2800" spc="-1" strike="noStrike">
                <a:solidFill>
                  <a:srgbClr val="ffffff"/>
                </a:solidFill>
                <a:latin typeface="Tahoma"/>
              </a:rPr>
              <a:t>e- Hiç yapamam dediğiniz soruya </a:t>
            </a:r>
            <a:r>
              <a:rPr b="0" lang="tr-TR" sz="2800" spc="-1" strike="noStrike">
                <a:solidFill>
                  <a:srgbClr val="ebf25a"/>
                </a:solidFill>
                <a:latin typeface="Tahoma"/>
              </a:rPr>
              <a:t>elips</a:t>
            </a:r>
            <a:r>
              <a:rPr b="0" lang="tr-TR" sz="2800" spc="-1" strike="noStrike">
                <a:solidFill>
                  <a:srgbClr val="ffffff"/>
                </a:solidFill>
                <a:latin typeface="Tahoma"/>
              </a:rPr>
              <a:t> işareti konulabilir. </a:t>
            </a:r>
            <a:br>
              <a:rPr sz="2800"/>
            </a:br>
            <a:r>
              <a:rPr b="0" lang="tr-T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ÖSYS bütün soruları cevaplama mecburiyetimizin olduğu bir sınav değildir.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liyorsak cevaplandırmamız elbette bir sorun oluşturmaz.</a:t>
            </a:r>
            <a:endParaRPr b="0" lang="en-US" sz="2000" spc="-1" strike="noStrike">
              <a:solidFill>
                <a:srgbClr val="ffff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Ancak cevabı konusunda tereddüt ettiğimiz soruları gelişigüzel cevaplandırmak fayda değil zarar verecektir.</a:t>
            </a:r>
            <a:endParaRPr b="0" lang="en-US" sz="2000" spc="-1" strike="noStrike">
              <a:solidFill>
                <a:srgbClr val="ffffff"/>
              </a:solidFill>
              <a:latin typeface="Tahoma"/>
            </a:endParaRPr>
          </a:p>
          <a:p>
            <a:pPr marL="332640" indent="-33264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Unutmamamız gereken bir şey var ki her soru her net bizim için önemlidir.</a:t>
            </a:r>
            <a:endParaRPr b="0" lang="en-US" sz="2000" spc="-1" strike="noStrike">
              <a:solidFill>
                <a:srgbClr val="ffffff"/>
              </a:solidFill>
              <a:latin typeface="Tahoma"/>
            </a:endParaRPr>
          </a:p>
          <a:p>
            <a:pPr marL="332640" indent="-33264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Bir net bizi 20.000 kişinin üstüne çıkarabilir veya altına düşürebilir. </a:t>
            </a:r>
            <a:endParaRPr b="0" lang="en-US" sz="2000" spc="-1" strike="noStrike">
              <a:solidFill>
                <a:srgbClr val="ffff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Soru içinde geçen ipuçlarından faydalanmamız gerekir. </a:t>
            </a:r>
            <a:endParaRPr b="0" lang="en-US" sz="2000" spc="-1" strike="noStrike">
              <a:solidFill>
                <a:srgbClr val="ffff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nlar altı çizili, koyu puntoyla yazılmış, tırnak içende, değildir, olmaz, her zaman, hiçbir zaman, bütün, zaman zaman, yoktur, vardır, birbirinden farklı, birbirine benzer, eşdeğer, birden fazla, ayrı ayrı, iç içe, yan yana, ikisi bir arada, ana düşünce, yan düşünce, benzer düşünce, asla, genellikle, çoğu, v.b. ipuçlarıdır. </a:t>
            </a:r>
            <a:br>
              <a:rPr sz="2000"/>
            </a:br>
            <a:br>
              <a:rPr sz="2000"/>
            </a:b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şarıyı hedef alın; </a:t>
            </a:r>
            <a:br>
              <a:rPr sz="2400"/>
            </a:b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marL="325800" indent="-32580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ükemmel olmayı değil. </a:t>
            </a:r>
            <a:br>
              <a:rPr sz="2400"/>
            </a:br>
            <a:br>
              <a:rPr sz="2400"/>
            </a:br>
            <a:r>
              <a:rPr b="0" lang="en-US" sz="2400" spc="-1" strike="noStrike">
                <a:solidFill>
                  <a:srgbClr val="ffffff"/>
                </a:solidFill>
                <a:latin typeface="Tahoma"/>
              </a:rPr>
              <a:t>Yanlış yapma hakkından vazgeçmeyin; </a:t>
            </a:r>
            <a:br>
              <a:rPr sz="2400"/>
            </a:br>
            <a:br>
              <a:rPr sz="2400"/>
            </a:br>
            <a:r>
              <a:rPr b="0" lang="en-US" sz="2400" spc="-1" strike="noStrike">
                <a:solidFill>
                  <a:srgbClr val="ffffff"/>
                </a:solidFill>
                <a:latin typeface="Tahoma"/>
              </a:rPr>
              <a:t>Vazgeçerseniz yeni şeyler öğrenme ve gelişme olanağını kaybedersiniz. </a:t>
            </a: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marL="325800" indent="-32580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utmayın; mükemmeliyetçiliğin arkasında korku yatar. </a:t>
            </a:r>
            <a:br>
              <a:rPr sz="2400"/>
            </a:br>
            <a:br>
              <a:rPr sz="2400"/>
            </a:br>
            <a:r>
              <a:rPr b="0" lang="en-US" sz="2400" spc="-1" strike="noStrike">
                <a:solidFill>
                  <a:srgbClr val="ffffff"/>
                </a:solidFill>
                <a:latin typeface="Tahoma"/>
              </a:rPr>
              <a:t>İnsan olduğunuzu hatırlayarak korkularınızı göğüsleyin. </a:t>
            </a:r>
            <a:br>
              <a:rPr sz="2400"/>
            </a:br>
            <a:br>
              <a:rPr sz="2400"/>
            </a:br>
            <a:r>
              <a:rPr b="0" lang="en-US" sz="2400" spc="-1" strike="noStrike">
                <a:solidFill>
                  <a:srgbClr val="ffffff"/>
                </a:solidFill>
                <a:latin typeface="Tahoma"/>
              </a:rPr>
              <a:t>Daha mutlu ve etkili bir insan olursunuz. </a:t>
            </a:r>
            <a:br>
              <a:rPr sz="2400"/>
            </a:br>
            <a:br>
              <a:rPr sz="2400"/>
            </a:b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4806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bf25a"/>
                </a:solidFill>
                <a:latin typeface="Tahoma"/>
              </a:rPr>
              <a:t>Hangi Derste Nasıl Test </a:t>
            </a:r>
            <a:br>
              <a:rPr sz="4200"/>
            </a:br>
            <a:br>
              <a:rPr sz="4200"/>
            </a:br>
            <a:r>
              <a:rPr b="0" lang="en-US" sz="4200" spc="-1" strike="noStrike">
                <a:solidFill>
                  <a:srgbClr val="ebf25a"/>
                </a:solidFill>
                <a:latin typeface="Tahoma"/>
              </a:rPr>
              <a:t>Çözmelisiniz? </a:t>
            </a:r>
            <a:br>
              <a:rPr sz="4200"/>
            </a:br>
            <a:br>
              <a:rPr sz="4200"/>
            </a:br>
            <a:endParaRPr b="0" lang="en-US" sz="4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             </a:t>
            </a:r>
            <a:r>
              <a:rPr b="0" lang="en-US" sz="2800" spc="-1" strike="noStrike">
                <a:solidFill>
                  <a:srgbClr val="ebf25a"/>
                </a:solidFill>
                <a:latin typeface="Tahoma"/>
              </a:rPr>
              <a:t>MATEMATİK DERSİNİN İÇERİĞİ</a:t>
            </a:r>
            <a:r>
              <a:rPr b="0" lang="en-US" sz="2800" spc="-1" strike="noStrike">
                <a:solidFill>
                  <a:srgbClr val="ffffff"/>
                </a:solidFill>
                <a:latin typeface="Tahoma"/>
              </a:rPr>
              <a:t> </a:t>
            </a:r>
            <a:br>
              <a:rPr sz="2800"/>
            </a:br>
            <a:endParaRPr b="0" lang="en-US" sz="2800" spc="-1" strike="noStrike">
              <a:solidFill>
                <a:srgbClr val="ffffff"/>
              </a:solidFill>
              <a:latin typeface="Tahoma"/>
            </a:endParaRPr>
          </a:p>
          <a:p>
            <a:pPr marL="325800" indent="-3258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ematik şekil, sayı ve çoklukların yapılarını, özelliklerini ve aralarındaki bağıntıları, düşünce yoluyla inceleyen bir bilimdir. </a:t>
            </a:r>
            <a:endParaRPr b="0" lang="en-US" sz="2800" spc="-1" strike="noStrike">
              <a:solidFill>
                <a:srgbClr val="ffffff"/>
              </a:solidFill>
              <a:latin typeface="Tahoma"/>
            </a:endParaRPr>
          </a:p>
          <a:p>
            <a:pPr marL="325800" indent="-3258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ematik öğreniminde temel amaç insanlarda doğuştan var olan düşünebilme kabiliyetini geliştirmektir. </a:t>
            </a:r>
            <a:endParaRPr b="0" lang="en-US" sz="2800" spc="-1" strike="noStrike">
              <a:solidFill>
                <a:srgbClr val="ffffff"/>
              </a:solidFill>
              <a:latin typeface="Tahoma"/>
            </a:endParaRPr>
          </a:p>
          <a:p>
            <a:pPr marL="325800" indent="-3258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ematik, karşılaşacağımız olayları ve problemleri inceleyen, araştırma ve karşılaştırma yaparak her konuda mantıklı düşünmeyi ve doğruyu bulmamızı sağlayan bir bilim dalıdır. </a:t>
            </a:r>
            <a:br>
              <a:rPr sz="2800"/>
            </a:b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f25a"/>
                </a:solidFill>
                <a:latin typeface="Tahoma"/>
              </a:rPr>
              <a:t>              </a:t>
            </a:r>
            <a:r>
              <a:rPr b="0" lang="en-US" sz="1800" spc="-1" strike="noStrike">
                <a:solidFill>
                  <a:srgbClr val="ebf25a"/>
                </a:solidFill>
                <a:latin typeface="Tahoma"/>
              </a:rPr>
              <a:t>MATEMATİK DERSİNE AİT SORULARIN ÖZELLİKLERİ</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tematik soruları sayılar yardımıyla problem çözebilme, matematiksel ilişkilerden yararlanabilme ve düşünme yeteneğini geliştirme niteliklerine sahiptir.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Öğrenci sorunun ne anlama geldiğini kavramak için dikkatli bir şekilde gerekirse altını çizerek soruyu okumalı, önce çok iyi anlamalı ve çözümü yaparken işlem hatası yapmamalıdır.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şlemin bitiminde mutlaka çözüm kontrol edilmelidir.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tematiğe ait bazı sorular eleme veya şıkları kullanma yoluyla da çözülebilmektedir. </a:t>
            </a:r>
            <a:br>
              <a:rPr sz="1800"/>
            </a:b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tematik dersinde bir konuyla ilgili çok farklı soru sorulabilir. Aynı şekilde bir sorunun çok farklı çözüm yolları olabilir.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ÖSS’de sorulardaki yanlış yapma ihtimalini en aza indirgemek için konularla ilgili mümkün olduğunca fazla ve farklı tarzda sorular çözmek gerekir.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tematikte sorulardaki hiçbir veri gereksiz değildir. Her veri sorunun çözümünde bir ayrıntıdır. Sorularda her ayrıntıya dikkat etmek gerekir. </a:t>
            </a:r>
            <a:br>
              <a:rPr sz="1800"/>
            </a:b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f25a"/>
                </a:solidFill>
                <a:latin typeface="Tahoma"/>
              </a:rPr>
              <a:t>                            </a:t>
            </a:r>
            <a:r>
              <a:rPr b="0" lang="en-US" sz="1600" spc="-1" strike="noStrike">
                <a:solidFill>
                  <a:srgbClr val="ebf25a"/>
                </a:solidFill>
                <a:latin typeface="Tahoma"/>
              </a:rPr>
              <a:t>Matematik testi nasıl çözülür? </a:t>
            </a:r>
            <a:br>
              <a:rPr sz="1600"/>
            </a:br>
            <a:endParaRPr b="0" lang="en-US" sz="1600" spc="-1" strike="noStrike">
              <a:solidFill>
                <a:srgbClr val="ffffff"/>
              </a:solidFill>
              <a:latin typeface="Tahoma"/>
            </a:endParaRPr>
          </a:p>
          <a:p>
            <a:pPr marL="343080" indent="-3430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atematikteki tanımları kavramanız gerekir. </a:t>
            </a:r>
            <a:br>
              <a:rPr sz="1600"/>
            </a:b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atematikte kuralların, formüllerin, işlem basamakların, pratik yöntemlerin bilinmesi gerekir. </a:t>
            </a:r>
            <a:endParaRPr b="0" lang="en-US" sz="1600" spc="-1" strike="noStrike">
              <a:solidFill>
                <a:srgbClr val="ffffff"/>
              </a:solidFill>
              <a:latin typeface="Tahoma"/>
            </a:endParaRPr>
          </a:p>
          <a:p>
            <a:pPr marL="343080" indent="-3430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Test çözerken mutlaka yanınızda konu anlatımlı defteriniz olsun. Testlerde takıldığınız konularda size takviye olacaktır. </a:t>
            </a:r>
            <a:br>
              <a:rPr sz="1600"/>
            </a:b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Yeni öğrenilmiş konuyla ilgili test çözmeye başlarken en basit düzeyden başlamalısınız. Basit düzeyden başlamak motivenizi arttıracaktır. </a:t>
            </a:r>
            <a:br>
              <a:rPr sz="1600"/>
            </a:b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Her hafta geçmiş konulardan bir tanesini belirleyin ve bu konuyla ilgili 2 tane test çözmeniz sizin için yararlı olacaktır,. </a:t>
            </a:r>
            <a:br>
              <a:rPr sz="1600"/>
            </a:b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at-2 de alanlara dayalı bilgilerin yoklandığı daha derinliğine bilgilerin bilinmesini gerekli kılacak sorulardan oluşmaktadır. Bu bölümden test çözebilmek için lise bir ve lise iki konularının çok iyi kavranması gerekmektedir. </a:t>
            </a:r>
            <a:br>
              <a:rPr sz="1600"/>
            </a:b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at-2’de yer alan konular atlanmadan çalışılmalıdır, çünkü Mat-2’de bir soru birden çok konuyu kapsayabilir. Örneğin fonksiyon sorusunun içinde trigonometri de yer alabilir. </a:t>
            </a:r>
            <a:br>
              <a:rPr sz="1600"/>
            </a:b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Soruda verilen her bilgiyi kullanmak gerekir. </a:t>
            </a:r>
            <a:br>
              <a:rPr sz="1600"/>
            </a:br>
            <a:br>
              <a:rPr sz="1600"/>
            </a:br>
            <a:r>
              <a:rPr b="0" lang="en-US"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                 </a:t>
            </a:r>
            <a:r>
              <a:rPr b="0" lang="en-US" sz="2400" spc="-1" strike="noStrike">
                <a:solidFill>
                  <a:srgbClr val="ebf25a"/>
                </a:solidFill>
                <a:latin typeface="Tahoma"/>
              </a:rPr>
              <a:t>GEOMETRİ DERSİNİN İÇERİĞİ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ometri iki ve üç boyutlu uzayda yüzeyler arasındaki hacim, alan, uzunluk ve açı ilişkilerini inceleyen bir derstir.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Özellikle mühendislik alanında olmak üzere her türlü sayısal bilimin temelinde geometri vardır.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mamen mantık yürütmeye, zeka gücünü arttırmaya ve pratik düşünme yeteneğini kazandırmaya yönelik bir derstir.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yrıca şekillerle düşünmeyi ve işlem yapabilmeyi, üç boyutlu bir düşünce yapısı kazandırmayı, geometrik kavramların anlamlarını, birbirleriyle olan ilişkilerini keşfettirmeyi amaçlar. </a:t>
            </a:r>
            <a:br>
              <a:rPr sz="2400"/>
            </a:b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f25a"/>
                </a:solidFill>
                <a:latin typeface="Tahoma"/>
              </a:rPr>
              <a:t>            </a:t>
            </a:r>
            <a:r>
              <a:rPr b="0" lang="en-US" sz="1800" spc="-1" strike="noStrike">
                <a:solidFill>
                  <a:srgbClr val="ebf25a"/>
                </a:solidFill>
                <a:latin typeface="Tahoma"/>
              </a:rPr>
              <a:t>GEOMETRİ DERSİNE AİT SORULARIN ÖZELLİKLERİ</a:t>
            </a:r>
            <a:r>
              <a:rPr b="0" lang="en-US" sz="1800" spc="-1" strike="noStrike">
                <a:solidFill>
                  <a:srgbClr val="ffffff"/>
                </a:solidFill>
                <a:latin typeface="Tahoma"/>
              </a:rPr>
              <a:t>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eometri dersi şekil ağırlıklı, görmeye dayalı sorulardan oluşur, salt bilgi soruları yoktur.</a:t>
            </a:r>
            <a:endParaRPr b="0" lang="en-US" sz="1800" spc="-1" strike="noStrike">
              <a:solidFill>
                <a:srgbClr val="ffffff"/>
              </a:solidFill>
              <a:latin typeface="Tahoma"/>
            </a:endParaRPr>
          </a:p>
          <a:p>
            <a:pPr marL="335880" indent="-3358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artışmasız kesin sonuçları vardır. Sorular çözülürken verilerin yanında büyük ölçüde yorum gücü ve mantık kullanılır.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Geometride şekilli sorular ağırlıklı olduğundan verilere bakılmalı veriler şekle taşınmalı ve nasıl kullanılır diye düşünerek çözüme ulaşılmalıdır.</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orudaki hiçbir bilgi gereksiz değildir. </a:t>
            </a:r>
            <a:endParaRPr b="0" lang="en-US" sz="1800" spc="-1" strike="noStrike">
              <a:solidFill>
                <a:srgbClr val="ffffff"/>
              </a:solidFill>
              <a:latin typeface="Tahoma"/>
            </a:endParaRPr>
          </a:p>
          <a:p>
            <a:pPr marL="335880" indent="-3358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Çözüme ulaşmak için bütün verilerin kullanılması gerekir. </a:t>
            </a:r>
            <a:endParaRPr b="0" lang="en-US" sz="1800" spc="-1" strike="noStrike">
              <a:solidFill>
                <a:srgbClr val="ffffff"/>
              </a:solidFill>
              <a:latin typeface="Tahoma"/>
            </a:endParaRPr>
          </a:p>
          <a:p>
            <a:pPr marL="335880" indent="-3358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Tahoma"/>
              </a:rPr>
              <a:t>Ayrıca öğrenci, sorunun çözümü için verilen şekil üzerinde ilave çizimler yapıp yardımcı doğrulardan yararlanmalıdır.</a:t>
            </a:r>
            <a:endParaRPr b="0" lang="en-US" sz="1800" spc="-1" strike="noStrike">
              <a:solidFill>
                <a:srgbClr val="ffffff"/>
              </a:solidFill>
              <a:latin typeface="Tahoma"/>
            </a:endParaRPr>
          </a:p>
          <a:p>
            <a:pPr marL="335880" indent="-3358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Geometri soruları öğrencilerin şekiller arasında ilişki kurabilme yeteneğine bağlı olarak çözülen sorulardır. Soru ile karşılaşıldığında şekiller arasındaki ilişki ilk bakışta görülemeyebilir. </a:t>
            </a:r>
            <a:endParaRPr b="0" lang="en-US" sz="1800" spc="-1" strike="noStrike">
              <a:solidFill>
                <a:srgbClr val="ffffff"/>
              </a:solidFill>
              <a:latin typeface="Tahoma"/>
            </a:endParaRPr>
          </a:p>
          <a:p>
            <a:pPr marL="335880" indent="-3358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rular üzerinde sonuca ulaşılamadığı zaman, sonradan o sorulara dönerek farklı bir bakış açısı yakalanmaya çalışılmalıdır. </a:t>
            </a:r>
            <a:br>
              <a:rPr sz="1800"/>
            </a:br>
            <a:br>
              <a:rPr sz="1800"/>
            </a:b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               </a:t>
            </a:r>
            <a:r>
              <a:rPr b="0" lang="en-US" sz="2400" spc="-1" strike="noStrike">
                <a:solidFill>
                  <a:srgbClr val="ebf25a"/>
                </a:solidFill>
                <a:latin typeface="Tahoma"/>
              </a:rPr>
              <a:t>ÖSYS’de şans faktörü yoktur. </a:t>
            </a:r>
            <a:endParaRPr b="0" lang="en-US" sz="2400" spc="-1" strike="noStrike">
              <a:solidFill>
                <a:srgbClr val="ffffff"/>
              </a:solidFill>
              <a:latin typeface="Tahoma"/>
            </a:endParaRPr>
          </a:p>
          <a:p>
            <a:pPr marL="332640" indent="-33264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Çünkü: </a:t>
            </a:r>
            <a:br>
              <a:rPr sz="2400"/>
            </a:br>
            <a:br>
              <a:rPr sz="2400"/>
            </a:br>
            <a:r>
              <a:rPr b="0" lang="en-US" sz="2400" spc="-1" strike="noStrike">
                <a:solidFill>
                  <a:srgbClr val="ffffff"/>
                </a:solidFill>
                <a:latin typeface="Tahoma"/>
              </a:rPr>
              <a:t>a) 4 yanlışın 1 doğruyu götürmesi </a:t>
            </a:r>
            <a:br>
              <a:rPr sz="2400"/>
            </a:br>
            <a:br>
              <a:rPr sz="2400"/>
            </a:br>
            <a:r>
              <a:rPr b="0" lang="en-US" sz="2400" spc="-1" strike="noStrike">
                <a:solidFill>
                  <a:srgbClr val="ffffff"/>
                </a:solidFill>
                <a:latin typeface="Tahoma"/>
              </a:rPr>
              <a:t>b) Yaklaşık 1,5 milyon rakibin olması </a:t>
            </a:r>
            <a:br>
              <a:rPr sz="2400"/>
            </a:br>
            <a:br>
              <a:rPr sz="2400"/>
            </a:br>
            <a:r>
              <a:rPr b="0" lang="en-US" sz="2400" spc="-1" strike="noStrike">
                <a:solidFill>
                  <a:srgbClr val="ffffff"/>
                </a:solidFill>
                <a:latin typeface="Tahoma"/>
              </a:rPr>
              <a:t>c) 9 dersten 100’ün üzerindeki konudan soru sorulması </a:t>
            </a:r>
            <a:br>
              <a:rPr sz="2400"/>
            </a:br>
            <a:br>
              <a:rPr sz="2400"/>
            </a:br>
            <a:r>
              <a:rPr b="0" lang="en-US" sz="2400" spc="-1" strike="noStrike">
                <a:solidFill>
                  <a:srgbClr val="ffffff"/>
                </a:solidFill>
                <a:latin typeface="Tahoma"/>
              </a:rPr>
              <a:t>d) Her soruda 4 çeldiricinin olması </a:t>
            </a:r>
            <a:br>
              <a:rPr sz="2400"/>
            </a:br>
            <a:br>
              <a:rPr sz="2400"/>
            </a:br>
            <a:r>
              <a:rPr b="0" lang="en-US" sz="2400" spc="-1" strike="noStrike">
                <a:solidFill>
                  <a:srgbClr val="ffffff"/>
                </a:solidFill>
                <a:latin typeface="Tahoma"/>
              </a:rPr>
              <a:t>e) 180 soru sorulması </a:t>
            </a:r>
            <a:br>
              <a:rPr sz="2400"/>
            </a:br>
            <a:br>
              <a:rPr sz="2400"/>
            </a:br>
            <a:r>
              <a:rPr b="0" lang="en-US" sz="2400" spc="-1" strike="noStrike">
                <a:solidFill>
                  <a:srgbClr val="ffffff"/>
                </a:solidFill>
                <a:latin typeface="Tahoma"/>
              </a:rPr>
              <a:t>f) 80 dakika süre verilmesi </a:t>
            </a:r>
            <a:br>
              <a:rPr sz="2400"/>
            </a:br>
            <a:br>
              <a:rPr sz="2400"/>
            </a:br>
            <a:r>
              <a:rPr b="0" lang="en-US" sz="2400" spc="-1" strike="noStrike">
                <a:solidFill>
                  <a:srgbClr val="ffffff"/>
                </a:solidFill>
                <a:latin typeface="Tahoma"/>
              </a:rPr>
              <a:t>g) Tek sınav olması gibi etkenler şans faktörünü azaltabilir. </a:t>
            </a: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f25a"/>
                </a:solidFill>
                <a:latin typeface="Tahoma"/>
              </a:rPr>
              <a:t>                          </a:t>
            </a:r>
            <a:r>
              <a:rPr b="0" lang="en-US" sz="1600" spc="-1" strike="noStrike">
                <a:solidFill>
                  <a:srgbClr val="ebf25a"/>
                </a:solidFill>
                <a:latin typeface="Tahoma"/>
              </a:rPr>
              <a:t>Geometri testi nasıl çözülmelidir?</a:t>
            </a:r>
            <a:br>
              <a:rPr sz="1600"/>
            </a:br>
            <a:endParaRPr b="0" lang="en-US" sz="16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800" spc="-1" strike="noStrike">
                <a:solidFill>
                  <a:srgbClr val="ffffff"/>
                </a:solidFill>
                <a:latin typeface="Tahoma"/>
              </a:rPr>
              <a:t>Geometri sorularını çözebilmek için her şeyden önce matematiğin köklü sayılar, rasyonel sayılar, 1. dereceden ve iki bilinmeyenli denklem çözümleri konularının çok iyi öğrenilmiş olması gerekmektedir,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örülen her konu diğer konuların soruları içinde de karşınıza çıkar, dolayısıyla konulara çok iyi hakim olmak gerekir,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eometri bir formüller zincirinden çok, kuralları bilinen bir oyunun oynanması gibidir.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uralları iyi bilen ve uygulayan her zaman kazanır. Sadece kurallar öğrenilerek istenilen netlere asla ulaşılamaz. Kurallar kadar bu kuralların nasıl uygulanabileceği de önemlidir.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r soruda kurallar ortaya çıkmayabilir, şekil üzerinde mevcut ipuçlarını değerlendirerek kuralları siz ortaya çıkartmalı ve uygulamalısınız,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Şekil geometri için her şeydir. Soruları çözebilmek için her şeyden önce iyi okumalı ve verilenleri eksiksiz olarak şeklin üzerine taşıyabilmelisiniz,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ksik alınmış veya düzgün yerleştirilmemiş bir bilgi sorunun çözümünü olumsuz etkilemektedir.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zla bilgi ile şekli doldurmamalıyız. Şekil üzerine az, anlaşılır ve yeterli bilgi bulunmalıdır. </a:t>
            </a:r>
            <a:br>
              <a:rPr sz="1800"/>
            </a:br>
            <a:br>
              <a:rPr sz="1800"/>
            </a:b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34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f25a"/>
                </a:solidFill>
                <a:latin typeface="Tahoma"/>
              </a:rPr>
              <a:t>FİZİK DERSİNİN İÇERİĞİ</a:t>
            </a:r>
            <a:endParaRPr b="0" lang="en-US" sz="3800" spc="-1" strike="noStrike">
              <a:solidFill>
                <a:srgbClr val="ffffcc"/>
              </a:solidFill>
              <a:latin typeface="Tahoma"/>
            </a:endParaRPr>
          </a:p>
        </p:txBody>
      </p:sp>
      <p:sp>
        <p:nvSpPr>
          <p:cNvPr id="161" name="PlaceHolder 2"/>
          <p:cNvSpPr>
            <a:spLocks noGrp="1"/>
          </p:cNvSpPr>
          <p:nvPr>
            <p:ph/>
          </p:nvPr>
        </p:nvSpPr>
        <p:spPr>
          <a:xfrm>
            <a:off x="457200" y="764640"/>
            <a:ext cx="8229600" cy="5365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zik dersi, Fen grubu dersleri içerisinde yer alan, bireylerin sayısal kapasitelerini kullanmalarını gerektiren, yorum ağırlıklı bir derstir. </a:t>
            </a: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335880" indent="-3358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ktör kavramını, sayısal bazı işlemleri hatta yorum yeteneğini de içerdiğinden bir çok dersten faydalanır ve bir çok derse ışık tutar. </a:t>
            </a: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ktör, kuvvet, moment, ağırlık merkezi, basit makineler, kütle- öz kütle, sıvıların statiği, sıcaklık ve genleşme, hareket, enerji, elektrostatik, elektrik akımı ve optik ÖSS’de çıkan belli başlı fizik konularıdır. </a:t>
            </a: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anlış bir önyargı sonucu öğrenciler tarafından branş dersleri içerisinde en zor olarak algılanan derslerden birisi fiziktir. Başarısızlığın temel nedeni de budur. </a:t>
            </a:r>
            <a:endParaRPr b="0" lang="en-US" sz="2000" spc="-1" strike="noStrike">
              <a:solidFill>
                <a:srgbClr val="ffffff"/>
              </a:solidFill>
              <a:latin typeface="Tahoma"/>
            </a:endParaRPr>
          </a:p>
          <a:p>
            <a:pPr marL="335880" indent="-3358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zik dersini de diğer dersler gibi algılamak gerekir. </a:t>
            </a: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335880" indent="-3358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azı basit temel esaslar yerine getirildikten sonra öğrenilmesi kolay ve zevkli bir derstir.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ebf25a"/>
                </a:solidFill>
                <a:latin typeface="Tahoma"/>
              </a:rPr>
              <a:t>FİZİK DERSİNE AİT SORULARIN ÖZELLİKLERİ</a:t>
            </a:r>
            <a:r>
              <a:rPr b="0" lang="tr-TR"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ÖSS’deki 45 soruluk fen grubu dersleri içerisinde 19 soru ile en fazla soru çıkan ders olup bir sayısal öğrencisinin mutlaka öğrenmesi gereken bir derstir.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ÖSS’de çıkan fizik sorularının zorluk derecesini üç gruba ayırabiliriz. %25’i kolay, %50’si normal, %25’si ise çeldirici özellik taşıyan ve yoruma ihtiyaç duyulan zor nitelikteki sorulardır.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Fizik dersine programlı çalışan bir öğrenci soruların %75’ini rahatlıkla çözebilir. </a:t>
            </a:r>
            <a:br>
              <a:rPr sz="1800"/>
            </a:br>
            <a:r>
              <a:rPr b="0" lang="tr-TR" sz="1800" spc="-1" strike="noStrike">
                <a:solidFill>
                  <a:srgbClr val="ffffff"/>
                </a:solidFill>
                <a:latin typeface="Tahoma"/>
              </a:rPr>
              <a:t>Fizik dersinde sıralama soruları, kıyaslama ve fark alma soruları, oran soruları, ilke soruları belli başlı soru tipleridir.</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Fizik soruları genellikle şekilli ve soru metni ile şekilde birbirinin tamamlayıcısı olduğundan her ikisi birlikte dikkate alınarak verilen ve istenilen değerler belirlenmelidir.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lkeli sorularda önce soru kökü okunmalı ve ilkeler bu amaca uygun olarak incelenmelidir.</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Sorulara ezberci mantıkla değil, düşünce ve yorumla yaklaşılmalıdır.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Soru çözerken mümkünse şekil ve grafik çizerek olay somutlaştırılmalı ve zaman kaybı önlenmelidir.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Özellikle altı çizili, en az, en çok, kesinlik ve benzeri ifade eden anahtar kelimelere dikkat edilmelidir. </a:t>
            </a:r>
            <a:br>
              <a:rPr sz="1800"/>
            </a:br>
            <a:br>
              <a:rPr sz="1800"/>
            </a:br>
            <a:r>
              <a:rPr b="0" lang="tr-TR"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ebf25a"/>
                </a:solidFill>
                <a:latin typeface="Tahoma"/>
              </a:rPr>
              <a:t>Fizik testi nasıl çözülür?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orular çözülürken çözümler kağıt üzerinde yapılmalı,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runun açıklama bölümü ve esas vurgulanan kısmı çok iyi okunmalı,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Çözülemeyen sorular için konu yeniden incelenmeli, hatta çözümlü sorulardan, benzer soruların çözüm yöntemi gözden geçirilmeli,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eçmiş konular düzenli aralıklarla test çözülerek tekrar edilmelidir.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en-2 testindeki soruların ağırlıklı olarak Lise 2, Lise 3 fizik dersi müfredatındaki bilgileri kapsayacak biçimde; bilgileri kullanmayı ve analitik düşünmeyi gerektirecek bilgi ağırlıklı sorulardan oluşmaktadır.</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estleri çözebilmek için bilgi bakımından iyi hazırlanmış, temel ilke ve kuralları iyi kavramış olmak gerekmektedir. </a:t>
            </a:r>
            <a:br>
              <a:rPr sz="1800"/>
            </a:br>
            <a:br>
              <a:rPr sz="1800"/>
            </a:br>
            <a:br>
              <a:rPr sz="1800"/>
            </a:br>
            <a:br>
              <a:rPr sz="1800"/>
            </a:b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ebf25a"/>
                </a:solidFill>
                <a:latin typeface="Tahoma"/>
              </a:rPr>
              <a:t>KİMYA DERSİNİN İÇERİĞİ</a:t>
            </a:r>
            <a:r>
              <a:rPr b="0" lang="en-US" sz="1800" spc="-1" strike="noStrike">
                <a:solidFill>
                  <a:srgbClr val="ffffff"/>
                </a:solidFill>
                <a:latin typeface="Tahoma"/>
              </a:rPr>
              <a:t> </a:t>
            </a:r>
            <a:br>
              <a:rPr sz="1800"/>
            </a:b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imya dersi, maddelerin yapısını, özelliklerini, birbirleri ile olan etkileşimlerini inceler.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u dersle, gözlemlerin formüle edilişi, analitik düşünme ve problem çözme yeteneği kazandırılmaya çalışılır.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imya başlı başına bir bilim olmasına rağmen matematik, biyoloji ve fizik dersleri ile de bağlantılıdır.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u sebeple ÖSS’de çıkan bazı kimya soruları biyoloji ve fizik konularını da kapsamaktadır.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ğer matematik dersinde başarılı iseniz kimya dersinde de başarılı olmanız kuvvetle muhtemeldir.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Özellikle trigonometri, denklem kurma, grafikler ve türev gibi matematiğe ait konuların, bağıntı ve formüllerin iyi öğrenilmesi kimya dersine ait çalışmalarınızda işinizi kolaylaştırır. </a:t>
            </a:r>
            <a:br>
              <a:rPr sz="1800"/>
            </a:br>
            <a:br>
              <a:rPr sz="1800"/>
            </a:b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ebf25a"/>
                </a:solidFill>
                <a:latin typeface="Tahoma"/>
              </a:rPr>
              <a:t>                 </a:t>
            </a:r>
            <a:r>
              <a:rPr b="0" lang="tr-TR" sz="1800" spc="-1" strike="noStrike">
                <a:solidFill>
                  <a:srgbClr val="ebf25a"/>
                </a:solidFill>
                <a:latin typeface="Tahoma"/>
              </a:rPr>
              <a:t>KİMYA DERSİNE AİT SORULARIN ÖZELLİKLERİ</a:t>
            </a:r>
            <a:r>
              <a:rPr b="0" lang="tr-TR" sz="1800" spc="-1" strike="noStrike">
                <a:solidFill>
                  <a:srgbClr val="ffffff"/>
                </a:solidFill>
                <a:latin typeface="Tahoma"/>
              </a:rPr>
              <a:t> </a:t>
            </a:r>
            <a:br>
              <a:rPr sz="1800"/>
            </a:b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Kimya dersi konuları kendi içinde bağlantılı olmasının yanında, matematik, fizik ve biyoloji dersleri ile de ilişkilidir.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Bu nedenle kimya sorularında zorlanabilirsiniz. Zorlanmamanız için kimya dersi ile bağlantılı terim, kavram, formül, ilke ve birimlerin anlam ve içeriklerini iyi bilmeniz gerekmektedir.</a:t>
            </a:r>
            <a:r>
              <a:rPr b="0" lang="tr-TR"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Lise 1 ve lise 2. sınıfta işlenen kimya konularından ayrıntı isteyen soru gelebilmektedir.</a:t>
            </a:r>
            <a:endParaRPr b="0" lang="en-US" sz="20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Diğer tüm derslerde olduğu gibi kimya sorularının da doğru çözülebilmesi için, konuların iyi bilinmesi, birbirleri ile karıştırılmaması ve sorular okunurken vurgulamalara dikkat edilmesi gerekir.</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2000" spc="-1" strike="noStrike">
                <a:solidFill>
                  <a:srgbClr val="ffffff"/>
                </a:solidFill>
                <a:latin typeface="Tahoma"/>
              </a:rPr>
              <a:t>Bunun için; “iki katına çıkarılırsa” ,” aynı sıcaklıkta” , “eşit mollerde” , “sıcaklık iki katına çıkarılırsa”,.. gibi ayrıntılara dikkat edilmelidir. </a:t>
            </a:r>
            <a:br>
              <a:rPr sz="2000"/>
            </a:br>
            <a:br>
              <a:rPr sz="2000"/>
            </a:br>
            <a:br>
              <a:rPr sz="1800"/>
            </a:br>
            <a:r>
              <a:rPr b="0" lang="tr-TR"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24000" y="115560"/>
            <a:ext cx="8229600" cy="6481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ebf25a"/>
                </a:solidFill>
                <a:latin typeface="Tahoma"/>
              </a:rPr>
              <a:t>Kimya testi nasıl çözülür?</a:t>
            </a:r>
            <a:r>
              <a:rPr b="0" lang="en-US" sz="2400" spc="-1" strike="noStrike">
                <a:solidFill>
                  <a:srgbClr val="ffffff"/>
                </a:solidFill>
                <a:latin typeface="Tahoma"/>
              </a:rPr>
              <a:t> </a:t>
            </a:r>
            <a:br>
              <a:rPr sz="2400"/>
            </a:b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runun açıklama bölümü ve esas vurgulanan kısmı çok iyi okunmalı, </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Çözülemeyen sorular için konu yeniden incelenmeli, hatta çözümlü sorulardan, benzer soruların çözüm yöntemi gözden geçirilmeli,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imya sorularına önyargılı yaklaşmamalısınız, günlük hayatla iç içe olduğu için zevkli hale getirebilirsiniz, </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ınavın ikinci grup testleri, bilgiye dayalı yorum ve işlem sorularını içmektedir.</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 bölümde bilgiye dayalı analiz ve sentez soruları ile karşılaşacaksınız, </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Konuların unutulmaması için düzenli olarak geçmiş konulardan test çözülerek tekrar etmelisiniz. </a:t>
            </a:r>
            <a:br>
              <a:rPr sz="2400"/>
            </a:b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ebf25a"/>
                </a:solidFill>
                <a:latin typeface="Tahoma"/>
              </a:rPr>
              <a:t>TÜRKÇE DERSİN İÇERİĞİ</a:t>
            </a:r>
            <a:r>
              <a:rPr b="0" lang="en-US" sz="2000" spc="-1" strike="noStrike">
                <a:solidFill>
                  <a:srgbClr val="ffffff"/>
                </a:solidFill>
                <a:latin typeface="Tahoma"/>
              </a:rPr>
              <a:t> </a:t>
            </a:r>
            <a:br>
              <a:rPr sz="2000"/>
            </a:b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ürkçe dersi dil ve anlam bilgisi olmak üzere iki temel konudan oluşu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Öğrencinin dinleme, okuma ve yazma faaliyetleri ile Türk dilinin bütün özelliklerini öğrenme, kullanma ve bu yolla bilgi edinme, kavrama, analiz ve sentez yapabilme alışkanlığı kazanması bu dersi okumadaki en önemli gerekçelerden birkaç tanesidir.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ürkçe dersi kişinin anlama ve yorumlama gücünü geliştirdiği için bu derste başarılı olmak, tüm derslerdeki, özellikle sözel derslerdeki başarıyı olumlu yönde etkilemektedir.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ğru cevabı bulmak soruyu doğru okumaya, doğru anlamaya ve doğru yorumlamaya bağlıdır. </a:t>
            </a:r>
            <a:br>
              <a:rPr sz="2000"/>
            </a:br>
            <a:br>
              <a:rPr sz="2000"/>
            </a:b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                      </a:t>
            </a:r>
            <a:r>
              <a:rPr b="0" lang="tr-TR" sz="2000" spc="-1" strike="noStrike">
                <a:solidFill>
                  <a:srgbClr val="ebf25a"/>
                </a:solidFill>
                <a:latin typeface="Tahoma"/>
              </a:rPr>
              <a:t>TÜRKÇE DERSİNE AİT SORULARIN ÖZELLİKLERİ </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Türkçede anlam bilgisi soruları yoruma, dilbilgisi soruları ise bilgiye dayanır. </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Yoruma dayalı sorularda öznellikten kaçınmalı, soru kökünde ifade edilenler doğru algılanmalı, paragraftaki giriş, sonuç ve ana düşünceyi ifade eden ayrıntılara dikkat edilmelidir.</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Mecazlı ifadeler ve simge sözcükler dikkate alınmalıdır.</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 </a:t>
            </a:r>
            <a:r>
              <a:rPr b="0" lang="tr-TR" sz="2000" spc="-1" strike="noStrike">
                <a:solidFill>
                  <a:srgbClr val="ffffff"/>
                </a:solidFill>
                <a:latin typeface="Tahoma"/>
              </a:rPr>
              <a:t>Bilgi sorularında ise konu eksikleri tamamlanmalı, dil bilgisinin temel kuralları bilinmeli, mana ve değerler iyi kavranmalı, zengin bir kelime hazinesine sahip olunmalı, terimlerin anlamları iyi bilinmelidir. </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Sözcüklerle ilgili sorularda doğrudan ve dolaylı anlamları hatırlama, amaca uygun sözcüğü seçebilme, seçilen sözcüğün yerinde kullanıldığının farkına varma, hangi anlamlarda kullanıldığını belirleme ve sözcüklerin seçilme nedenlerini görme bu tip soruların doğru cevaplarını bulmak açısından önemlidir. </a:t>
            </a:r>
            <a:br>
              <a:rPr sz="2000"/>
            </a:br>
            <a:r>
              <a:rPr b="0" lang="tr-TR"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Cümlelerle ilgili sorularda, cümlenin yapı, anlam ve anlatım özelliklerini tanıma, dilin işleyiş düzenine uygun cümleler kurabilme, cümledeki ifade edilen yargıyı belirleme ve cümlenin seçiliş nedenini görme bu tip soruların doğru cevabını bulma açısından önemlidir. </a:t>
            </a: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Paragraflarla ilgili sorularda ana ve yan düşünceleri belirleme veya ayırma ve ana düşünce ile yan düşünce arasındaki bağlantıları görebilme, ayrıca düşünceyi geliştirme yol ve biçimlerini tanıma bu tip soruların doğru cevabını bulma açısından önemlidir. </a:t>
            </a:r>
            <a:br>
              <a:rPr sz="2800"/>
            </a:br>
            <a:br>
              <a:rPr sz="2800"/>
            </a:br>
            <a:r>
              <a:rPr b="0" lang="tr-T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549360"/>
            <a:ext cx="8229600" cy="5759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 </a:t>
            </a:r>
            <a:r>
              <a:rPr b="0" lang="en-US" sz="2800" spc="-1" strike="noStrike">
                <a:solidFill>
                  <a:srgbClr val="ebf25a"/>
                </a:solidFill>
                <a:latin typeface="Tahoma"/>
              </a:rPr>
              <a:t>Test tekniğine dayalı sınavlarda başarısızlığın     nedeni nedir? </a:t>
            </a:r>
            <a:br>
              <a:rPr sz="2800"/>
            </a:b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st tekniğine dayalı sınavlarda başarısızlığın nedeni genellikle bilgi eksikliğinden değil, sorulara yaklaşım tarzından veya soru sitiline aşina olmamaktan kaynaklanır. </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st tecrübesi sınav sonucunu etkileyen en önemli etkenlerdendir. Test çözme tekniğini iyi bilmek istenen sonucun alınmasını büyük oranda sağlayacaktır. </a:t>
            </a: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                       </a:t>
            </a:r>
            <a:r>
              <a:rPr b="0" lang="tr-TR" sz="1800" spc="-1" strike="noStrike">
                <a:solidFill>
                  <a:srgbClr val="ebf25a"/>
                </a:solidFill>
                <a:latin typeface="Tahoma"/>
              </a:rPr>
              <a:t>Türkçe – Edebiyat testi nasıl çözülür?</a:t>
            </a:r>
            <a:r>
              <a:rPr b="0" lang="tr-TR" sz="1800" spc="-1" strike="noStrike">
                <a:solidFill>
                  <a:srgbClr val="ffffff"/>
                </a:solidFill>
                <a:latin typeface="Tahoma"/>
              </a:rPr>
              <a:t> </a:t>
            </a:r>
            <a:br>
              <a:rPr sz="1800"/>
            </a:b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ürkçe testi çözerken sözcüğü, cümleyi ya da paragrafı yorumla konusunda mecaz anlamlara dikkat edilmelisiniz,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Dilbilgisi terimlerini ezberlemek, gramer sorularını çözmek için iyi bir yol değildir, terimlerin sözcük ya da cümleyle ilgili mantığını kavrarsanız bu tür soruları rahatlıkla çözersiniz,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İmla ve noktalama belli kurallar dahilinde olduğu için söz konusu kurallar öğrenmelisiniz,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Soruları okurken iyi ve doğru okumaya özen göstermelisiniz; zira bir virgül dahi anlatımda değişiklikler yapar,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Paragraf halindeki sorularda soru kökünü okumadan paragrafa geçmemelisiniz,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Dilbilgisi soruları temel bilgiler bilinmeden çözülemez, bu yüzden önce konunun öğrenilmesi sonra konuyla ilgili testler çözerek konuyu pekiştirmelisiniz,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Yeni sınavda ek bilgiler isteyen Edebiyat bölümü için de önce temel bilgiler edinilmeli daha sonra soru çözerek pekiştirilmelisiniz. </a:t>
            </a:r>
            <a:br>
              <a:rPr sz="1800"/>
            </a:br>
            <a:r>
              <a:rPr b="0" lang="tr-TR"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                   </a:t>
            </a:r>
            <a:r>
              <a:rPr b="0" lang="en-US" sz="2800" spc="-1" strike="noStrike">
                <a:solidFill>
                  <a:srgbClr val="ebf25a"/>
                </a:solidFill>
                <a:latin typeface="Tahoma"/>
              </a:rPr>
              <a:t>COĞRAFYA DERSİNİN İÇERİĞİ</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ğrafyanın araştırma ve inceleme konusu yeryüzünde görülen olayların karşılıklı sebep sonuç ilişkileridir. </a:t>
            </a:r>
            <a:endParaRPr b="0" lang="en-US" sz="2400" spc="-1" strike="noStrike">
              <a:solidFill>
                <a:srgbClr val="ffffff"/>
              </a:solidFill>
              <a:latin typeface="Tahoma"/>
            </a:endParaRPr>
          </a:p>
          <a:p>
            <a:pPr marL="343080" indent="-343080">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Örneğin dünyanın şekli ve hareketleri, </a:t>
            </a:r>
            <a:endParaRPr b="0" lang="en-US" sz="1800" spc="-1" strike="noStrike">
              <a:solidFill>
                <a:srgbClr val="ffffff"/>
              </a:solidFill>
              <a:latin typeface="Tahoma"/>
            </a:endParaRPr>
          </a:p>
          <a:p>
            <a:pPr marL="343080" indent="-343080">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arita bilgisi, </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klim ve doğal bitki örtüsü, </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er şekillerinin oluşum ve etkileri,</a:t>
            </a:r>
            <a:endParaRPr b="0" lang="en-US" sz="1800" spc="-1" strike="noStrike">
              <a:solidFill>
                <a:srgbClr val="ffffff"/>
              </a:solidFill>
              <a:latin typeface="Tahoma"/>
            </a:endParaRPr>
          </a:p>
          <a:p>
            <a:pPr marL="343080" indent="-343080">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nüfus ve yerleşme, </a:t>
            </a:r>
            <a:endParaRPr b="0" lang="en-US" sz="1800" spc="-1" strike="noStrike">
              <a:solidFill>
                <a:srgbClr val="ffffff"/>
              </a:solidFill>
              <a:latin typeface="Tahoma"/>
            </a:endParaRPr>
          </a:p>
          <a:p>
            <a:pPr marL="343080" indent="-343080">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konomik coğrafya ve Türkiye coğrafyası, </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ğal ve beşeri olayların tanınması </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e bunların insanlar üzerindeki etkilerini araştırır.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11280" y="115920"/>
            <a:ext cx="8229600" cy="6408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ebf25a"/>
                </a:solidFill>
                <a:latin typeface="Tahoma"/>
              </a:rPr>
              <a:t>     </a:t>
            </a:r>
            <a:r>
              <a:rPr b="0" lang="tr-TR" sz="2400" spc="-1" strike="noStrike">
                <a:solidFill>
                  <a:srgbClr val="ebf25a"/>
                </a:solidFill>
                <a:latin typeface="Tahoma"/>
              </a:rPr>
              <a:t>COĞRAFYA DERSİNE AİT SORULARIN ÖZELLİKLERİ</a:t>
            </a:r>
            <a:r>
              <a:rPr b="0" lang="tr-TR" sz="2400" spc="-1" strike="noStrike">
                <a:solidFill>
                  <a:srgbClr val="ffffff"/>
                </a:solidFill>
                <a:latin typeface="Tahoma"/>
              </a:rPr>
              <a:t> </a:t>
            </a:r>
            <a:br>
              <a:rPr sz="2400"/>
            </a:b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Coğrafya soruları; genel ve beşeri coğrafya bilgilerinin ölçülmesi ve yorumlanması, sebep sonuç ilişkilerinin kurulması, olayların Türkiye ve dünya üzerindeki dağılışı, ülke ve bölge ekonomisine etkilerinin ölçülmesi gibi konu ve kavramları içermektedir.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Coğrafya soruları çözülürken; bazı soruların cevabı soru metinlerinin içerisinde gizlidir, bu husus dikkate alınmalı ve soru kökleri dikkate alınmalıdır.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Her soru içerisinde coğrafyanın bir konusunda kullanılabilecek temel bir bilgi içeriği olabileceği düşünülerek bu bilgiler not alınmalıdır.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Özellikle tablo ve grafikli sorularda öğrenciden şekli veya istatistîki bilgileri sadece yorumlaması istenir ve soru köklerindeki olumlu-olumsuz ifadelere dikkat edilmelidir.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f25a"/>
                </a:solidFill>
                <a:latin typeface="Tahoma"/>
              </a:rPr>
              <a:t>              </a:t>
            </a:r>
            <a:r>
              <a:rPr b="0" lang="en-US" sz="2000" spc="-1" strike="noStrike">
                <a:solidFill>
                  <a:srgbClr val="ebf25a"/>
                </a:solidFill>
                <a:latin typeface="Tahoma"/>
              </a:rPr>
              <a:t>Genel olarak coğrafya sorularında</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 soru her öğrencinin yapabileceği,</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5 soru orta düzeyde öğrencinin yapabileceği,</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3 soru iyi öğrencilerin yapabileceği,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 soru ise çok iyi öğrencilerin yapabileceği sorulardan oluşmaktadır.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ndan dolayı 13 - 14 soru genel olarak yapılmalıdır.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ablo ve grafikli sorularda verilen bilgilere dikkat edilmeli ve seçeneklerle ilgisi kurulmalıdır.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Örneğin tablo veya grafikte oran verilmişse seçeneklerde buna dikkat etmeliyiz.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Çünkü oran ile miktar ayrı ayrı şeylerdir. Üretim ile verim de aynı şeyi ifade etmez.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ndan dolayı tablo ve grafiklerde verim, oran, miktar, nüfus artışı ve nüfus miktarı gibi kavramlara dikkat edilmelidir. </a:t>
            </a: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fontScale="95000"/>
          </a:bodyPr>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ff"/>
                </a:solidFill>
                <a:latin typeface="Tahoma"/>
              </a:rPr>
              <a:t>                                                            </a:t>
            </a:r>
            <a:r>
              <a:rPr b="0" lang="tr-TR" sz="1600" spc="-1" strike="noStrike">
                <a:solidFill>
                  <a:srgbClr val="ebf25a"/>
                </a:solidFill>
                <a:latin typeface="Tahoma"/>
              </a:rPr>
              <a:t>Coğrafya testi nasıl çözülür? </a:t>
            </a:r>
            <a:endParaRPr b="0" lang="en-US" sz="1600" spc="-1" strike="noStrike">
              <a:solidFill>
                <a:srgbClr val="ffffff"/>
              </a:solidFill>
              <a:latin typeface="Tahoma"/>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ahoma"/>
              </a:rPr>
              <a:t>Sorunun ne istediği iyi anlaşılmalı, olumlu ya da olumsuz olduğu tespit edilmelisiniz, </a:t>
            </a:r>
            <a:endParaRPr b="0" lang="en-US" sz="1400" spc="-1" strike="noStrike">
              <a:solidFill>
                <a:srgbClr val="ffffff"/>
              </a:solidFill>
              <a:latin typeface="Tahoma"/>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ahoma"/>
              </a:rPr>
              <a:t>Her seçeneğin doğru cevap olduğu düşünülerek bütün seçenekler iyi okunmalısınız, </a:t>
            </a:r>
            <a:endParaRPr b="0" lang="en-US" sz="1400" spc="-1" strike="noStrike">
              <a:solidFill>
                <a:srgbClr val="ffffff"/>
              </a:solidFill>
              <a:latin typeface="Tahoma"/>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ahoma"/>
              </a:rPr>
              <a:t>Coğrafya dersi tarih, felsefe gibi bir sosyal ders değildir. Sadece bilgi ile hareket edildiğinde gerekli başarıya ulaşılamaz. Özellikle yorum, grafik okuma ve basit sayısal özellikler bilmelisiniz, </a:t>
            </a:r>
            <a:endParaRPr b="0" lang="en-US" sz="1400" spc="-1" strike="noStrike">
              <a:solidFill>
                <a:srgbClr val="ffffff"/>
              </a:solidFill>
              <a:latin typeface="Tahoma"/>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ahoma"/>
              </a:rPr>
              <a:t>Tablo, grafik sorularında verilen bilgilere dikkat edilmeli ve seçenekler ile ilgisini kurmalısınız, </a:t>
            </a:r>
            <a:br>
              <a:rPr sz="1400"/>
            </a:br>
            <a:r>
              <a:rPr b="0" lang="tr-TR" sz="1400" spc="-1" strike="noStrike">
                <a:solidFill>
                  <a:srgbClr val="ffffff"/>
                </a:solidFill>
                <a:latin typeface="Tahoma"/>
              </a:rPr>
              <a:t> Soruyu okuduğunuz zaman soruyla ilgili hiçbir fikriniz yoksa bile mutlaka seçenekleri okuyunuz.</a:t>
            </a:r>
            <a:endParaRPr b="0" lang="en-US" sz="1400" spc="-1" strike="noStrike">
              <a:solidFill>
                <a:srgbClr val="ffffff"/>
              </a:solidFill>
              <a:latin typeface="Tahoma"/>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ahoma"/>
              </a:rPr>
              <a:t> </a:t>
            </a:r>
            <a:r>
              <a:rPr b="0" lang="tr-TR" sz="1400" spc="-1" strike="noStrike">
                <a:solidFill>
                  <a:srgbClr val="ffffff"/>
                </a:solidFill>
                <a:latin typeface="Tahoma"/>
              </a:rPr>
              <a:t>Seçeneklerdeki bilgiler sizi bazen doğruya götürebilir. Örneğin seçeneklerde üç ya da dört seçenek aynı özelliği ifade edip, benzer şeyler olabilirler. O zaman hiçbirisi doğru cevap olamaz, </a:t>
            </a:r>
            <a:endParaRPr b="0" lang="en-US" sz="1400" spc="-1" strike="noStrike">
              <a:solidFill>
                <a:srgbClr val="ffffff"/>
              </a:solidFill>
              <a:latin typeface="Tahoma"/>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ahoma"/>
              </a:rPr>
              <a:t>Doğru cevaba ulaşmak için seçeneklerin elenmesi yöntemi coğrafya dersi için oldukça geçerlidir, iki seçeneğe indirildiği zaman, ilk düşünülen seçeneğin işaretlenmesinde sakınca yoktur, </a:t>
            </a:r>
            <a:endParaRPr b="0" lang="en-US" sz="1400" spc="-1" strike="noStrike">
              <a:solidFill>
                <a:srgbClr val="ffffff"/>
              </a:solidFill>
              <a:latin typeface="Tahoma"/>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ahoma"/>
              </a:rPr>
              <a:t>Sınavdan önce dünya ve Türkiye haritalarını incelemekte yarar vardır, önemli doğal ve beşeri olayların yerlerini bilinmeniz sizin için faydalı olacaktır, </a:t>
            </a:r>
            <a:endParaRPr b="0" lang="en-US" sz="1400" spc="-1" strike="noStrike">
              <a:solidFill>
                <a:srgbClr val="ffffff"/>
              </a:solidFill>
              <a:latin typeface="Tahoma"/>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ahoma"/>
              </a:rPr>
              <a:t>Ed.-Sos.-2 testlerinde, soruların doğrudan bilgi ölçen sorular şeklinde olmayacağı, bilgi gerektiren ancak kavrama düzeyini ve analitik düşünceyi de ölçen sorular sorulmaktadır.</a:t>
            </a:r>
            <a:endParaRPr b="0" lang="en-US" sz="1400" spc="-1" strike="noStrike">
              <a:solidFill>
                <a:srgbClr val="ffffff"/>
              </a:solidFill>
              <a:latin typeface="Tahoma"/>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nSpc>
                <a:spcPct val="80000"/>
              </a:lnSpc>
              <a:spcBef>
                <a:spcPts val="2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ahoma"/>
              </a:rPr>
              <a:t> </a:t>
            </a:r>
            <a:r>
              <a:rPr b="0" lang="tr-TR" sz="1400" spc="-1" strike="noStrike">
                <a:solidFill>
                  <a:srgbClr val="ffffff"/>
                </a:solidFill>
                <a:latin typeface="Tahoma"/>
              </a:rPr>
              <a:t>Bu nedenle bu alanla ilgili bol soru çözülmelisiniz, bu sayede hem öğrenilen bilgiler pekişir hem de kavrama düzeyi ve analitik düşünmeyi sağlama gelişecektir </a:t>
            </a:r>
            <a:br>
              <a:rPr sz="1400"/>
            </a:br>
            <a:br>
              <a:rPr sz="1400"/>
            </a:br>
            <a:br>
              <a:rPr sz="800"/>
            </a:br>
            <a:r>
              <a:rPr b="0" lang="tr-TR" sz="800" spc="-1" strike="noStrike">
                <a:solidFill>
                  <a:srgbClr val="ffffff"/>
                </a:solidFill>
                <a:latin typeface="Tahoma"/>
              </a:rPr>
              <a:t> </a:t>
            </a:r>
            <a:endParaRPr b="0" lang="en-US" sz="800" spc="-1" strike="noStrike">
              <a:solidFill>
                <a:srgbClr val="ffffff"/>
              </a:solidFill>
              <a:latin typeface="Tahoma"/>
            </a:endParaRPr>
          </a:p>
          <a:p>
            <a:pPr marL="3258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258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258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258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258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258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258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258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               </a:t>
            </a:r>
            <a:r>
              <a:rPr b="0" lang="en-US" sz="2400" spc="-1" strike="noStrike">
                <a:solidFill>
                  <a:srgbClr val="ebf25a"/>
                </a:solidFill>
                <a:latin typeface="Tahoma"/>
              </a:rPr>
              <a:t>TARİH DERSİNİN İÇERİĞİ</a:t>
            </a:r>
            <a:r>
              <a:rPr b="0" lang="en-US"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rih geçmişte yaşanmış olayları, sebep-sonuç ilişkisi içerisinde inceleyerek bugüne ışık tutan bir bilim dalıdır. </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rihin asıl amacı, bugünü düne bağlamak, günümüz olaylarını, geçmiş olayların ışığı altında yorumlamaktır. </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çmişteki önemli olayları o günün koşulları içerisinde değerlendirir ve güncel olayları inceleyen bilim dallarına yol gösterir. </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 dersin içeriğindeki konular deney ve gözlemden uzak, bulgu ve belgelere dayanılarak kronolojik olarak incelenir. </a:t>
            </a:r>
            <a:br>
              <a:rPr sz="2400"/>
            </a:b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f25a"/>
                </a:solidFill>
                <a:latin typeface="Tahoma"/>
              </a:rPr>
              <a:t>               </a:t>
            </a:r>
            <a:r>
              <a:rPr b="0" lang="en-US" sz="2000" spc="-1" strike="noStrike">
                <a:solidFill>
                  <a:srgbClr val="ebf25a"/>
                </a:solidFill>
                <a:latin typeface="Tahoma"/>
              </a:rPr>
              <a:t>TARİH DERSİNE AİT SORULARIN ÖZELLİKLERİ </a:t>
            </a:r>
            <a:br>
              <a:rPr sz="2000"/>
            </a:b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ragraf soruları cevabı paragrafta bulunan sorulardır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adece ön bilgi amacıyla verilip bizlerden yorum istenen sorulardır; bu sorularda paragrafla seçenekler arasında bağlantı kurulması gerekir böylece yorum gücümüz yoklanır.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Herhangi bir kavramla ilgili gelen sorulardır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Öncüllü sorular birbirine çok yakın, çeldirici seçeneklerin yer aldığı ve kavramların iyi anlaşılabilmesine dönüktür. Bu tip sorular öğrencinin özellikle bilgiyi analiz gücüne, akıl yürütme, yorumlayabilme kabiliyetine ve dikkatli okuyarak soru kökünde istenilene varabilme gücünü ölçen sorulardır.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lgi soruları öğrencide varolan daha önce aldığı bilgilerin doğruluğunu ölçmeye yarayan sorulardır </a:t>
            </a: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kkati ölçen sorular ise özellikle öğrencinin; sorunun konuyu ele alışı bakımından doğru cevabını seçmesine yönelik, dikkat ve bilgiyi kullanabilme gücüne sahip türden sorulardır.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ahoma"/>
              </a:rPr>
              <a:t>                                         </a:t>
            </a:r>
            <a:r>
              <a:rPr b="0" lang="tr-TR" sz="1400" spc="-1" strike="noStrike">
                <a:solidFill>
                  <a:srgbClr val="ebf25a"/>
                </a:solidFill>
                <a:latin typeface="Tahoma"/>
              </a:rPr>
              <a:t>Tarih testi nasıl çözülmeli? </a:t>
            </a:r>
            <a:endParaRPr b="0" lang="en-US" sz="1400" spc="-1" strike="noStrike">
              <a:solidFill>
                <a:srgbClr val="ffffff"/>
              </a:solidFill>
              <a:latin typeface="Tahoma"/>
            </a:endParaRPr>
          </a:p>
          <a:p>
            <a:pPr marL="3326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33264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Tarih dersi kolay öğrenildiği kadar kolay da unutulan bir ders olma özelliğini taşır. </a:t>
            </a:r>
            <a:endParaRPr b="0" lang="en-US" sz="1600" spc="-1" strike="noStrike">
              <a:solidFill>
                <a:srgbClr val="ffffff"/>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Ezber gücüne dayalı bir ders sanılması yanlış bir kanıdır. Bu nedenle geçmiş konuların belli aralıklarla tekrarıyla birlikte düzenli bir şekilde test çözmelisniz, </a:t>
            </a:r>
            <a:br>
              <a:rPr sz="1600"/>
            </a:br>
            <a:r>
              <a:rPr b="0" lang="tr-TR" sz="1600" spc="-1" strike="noStrike">
                <a:solidFill>
                  <a:srgbClr val="ffffff"/>
                </a:solidFill>
                <a:latin typeface="Tahoma"/>
              </a:rPr>
              <a:t> </a:t>
            </a:r>
            <a:endParaRPr b="0" lang="en-US" sz="1600" spc="-1" strike="noStrike">
              <a:solidFill>
                <a:srgbClr val="ffffff"/>
              </a:solidFill>
              <a:latin typeface="Tahoma"/>
            </a:endParaRPr>
          </a:p>
          <a:p>
            <a:pPr marL="332640" indent="-33264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Soruları çözerken sorunun açıklama bölümü ve esas vurgulanan kısmı çok iyi okunmalısınız, </a:t>
            </a:r>
            <a:br>
              <a:rPr sz="1600"/>
            </a:br>
            <a:r>
              <a:rPr b="0" lang="tr-TR" sz="1600" spc="-1" strike="noStrike">
                <a:solidFill>
                  <a:srgbClr val="ffffff"/>
                </a:solidFill>
                <a:latin typeface="Tahoma"/>
              </a:rPr>
              <a:t> </a:t>
            </a:r>
            <a:endParaRPr b="0" lang="en-US" sz="1600" spc="-1" strike="noStrike">
              <a:solidFill>
                <a:srgbClr val="ffffff"/>
              </a:solidFill>
              <a:latin typeface="Tahoma"/>
            </a:endParaRPr>
          </a:p>
          <a:p>
            <a:pPr marL="332640" indent="-33264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 </a:t>
            </a:r>
            <a:r>
              <a:rPr b="0" lang="tr-TR" sz="1600" spc="-1" strike="noStrike">
                <a:solidFill>
                  <a:srgbClr val="ffffff"/>
                </a:solidFill>
                <a:latin typeface="Tahoma"/>
              </a:rPr>
              <a:t>Sorular dikkatli okunmalı, sorunun mantığı kavranılmadan çözüme geçilmemelisiniz, </a:t>
            </a:r>
            <a:br>
              <a:rPr sz="1600"/>
            </a:br>
            <a:r>
              <a:rPr b="0" lang="tr-TR" sz="1600" spc="-1" strike="noStrike">
                <a:solidFill>
                  <a:srgbClr val="ffffff"/>
                </a:solidFill>
                <a:latin typeface="Tahoma"/>
              </a:rPr>
              <a:t> </a:t>
            </a:r>
            <a:endParaRPr b="0" lang="en-US" sz="1600" spc="-1" strike="noStrike">
              <a:solidFill>
                <a:srgbClr val="ffffff"/>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Çözülemeyen sorular için konu yeniden gözden geçirilmeli, hatta çözümlü sorulara, benzer soruların çözüm yöntemlerine bakılmalısınız, </a:t>
            </a:r>
            <a:br>
              <a:rPr sz="1600"/>
            </a:br>
            <a:r>
              <a:rPr b="0" lang="tr-TR" sz="1600" spc="-1" strike="noStrike">
                <a:solidFill>
                  <a:srgbClr val="ffffff"/>
                </a:solidFill>
                <a:latin typeface="Tahoma"/>
              </a:rPr>
              <a:t> </a:t>
            </a:r>
            <a:endParaRPr b="0" lang="en-US" sz="1600" spc="-1" strike="noStrike">
              <a:solidFill>
                <a:srgbClr val="ffffff"/>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Soruların olumlu veya olumsuz olduğuna dikkat edilmelisiniz, </a:t>
            </a:r>
            <a:endParaRPr b="0" lang="en-US" sz="1600" spc="-1" strike="noStrike">
              <a:solidFill>
                <a:srgbClr val="ffffff"/>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Soru okunurken, ipucu olabilecek notların altı çizilmelisiniz, </a:t>
            </a:r>
            <a:br>
              <a:rPr sz="1600"/>
            </a:br>
            <a:r>
              <a:rPr b="0" lang="tr-TR" sz="1600" spc="-1" strike="noStrike">
                <a:solidFill>
                  <a:srgbClr val="ffffff"/>
                </a:solidFill>
                <a:latin typeface="Tahoma"/>
              </a:rPr>
              <a:t> </a:t>
            </a:r>
            <a:endParaRPr b="0" lang="en-US" sz="1600" spc="-1" strike="noStrike">
              <a:solidFill>
                <a:srgbClr val="ffffff"/>
              </a:solidFill>
              <a:latin typeface="Tahoma"/>
            </a:endParaRPr>
          </a:p>
          <a:p>
            <a:pPr marL="332640" indent="-33264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 </a:t>
            </a:r>
            <a:r>
              <a:rPr b="0" lang="tr-TR" sz="1600" spc="-1" strike="noStrike">
                <a:solidFill>
                  <a:srgbClr val="ffffff"/>
                </a:solidFill>
                <a:latin typeface="Tahoma"/>
              </a:rPr>
              <a:t>Test çözerken eleme yöntemi kullanılabilirsiniz, </a:t>
            </a: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Kesinlikle ilk seçeneğe bakıp da onun doğru olduğunu diğerlerini okumamazlık etmeyiniz. </a:t>
            </a:r>
            <a:br>
              <a:rPr sz="1600"/>
            </a:br>
            <a:r>
              <a:rPr b="0" lang="tr-TR" sz="1600" spc="-1" strike="noStrike">
                <a:solidFill>
                  <a:srgbClr val="ffffff"/>
                </a:solidFill>
                <a:latin typeface="Tahoma"/>
              </a:rPr>
              <a:t> </a:t>
            </a:r>
            <a:endParaRPr b="0" lang="en-US" sz="1600" spc="-1" strike="noStrike">
              <a:solidFill>
                <a:srgbClr val="ffffff"/>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                    </a:t>
            </a:r>
            <a:r>
              <a:rPr b="0" lang="en-US" sz="2400" spc="-1" strike="noStrike">
                <a:solidFill>
                  <a:srgbClr val="ebf25a"/>
                </a:solidFill>
                <a:latin typeface="Tahoma"/>
              </a:rPr>
              <a:t>FELSEFE DERSİNİN İÇERİĞİ</a:t>
            </a:r>
            <a:r>
              <a:rPr b="0" lang="en-US" sz="2400" spc="-1" strike="noStrike">
                <a:solidFill>
                  <a:srgbClr val="ffffff"/>
                </a:solidFill>
                <a:latin typeface="Tahoma"/>
              </a:rPr>
              <a:t> </a:t>
            </a:r>
            <a:br>
              <a:rPr sz="2400"/>
            </a:b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elsefe dersi konu dağılımı bakımından ikiye ayrılır: </a:t>
            </a:r>
            <a:br>
              <a:rPr sz="2400"/>
            </a:br>
            <a:br>
              <a:rPr sz="2400"/>
            </a:br>
            <a:r>
              <a:rPr b="0" lang="en-US" sz="2400" spc="-1" strike="noStrike">
                <a:solidFill>
                  <a:srgbClr val="ffffff"/>
                </a:solidFill>
                <a:latin typeface="Tahoma"/>
              </a:rPr>
              <a:t>a) Felsefe Tarihi </a:t>
            </a:r>
            <a:br>
              <a:rPr sz="2400"/>
            </a:br>
            <a:r>
              <a:rPr b="0" lang="en-US" sz="2400" spc="-1" strike="noStrike">
                <a:solidFill>
                  <a:srgbClr val="ffffff"/>
                </a:solidFill>
                <a:latin typeface="Tahoma"/>
              </a:rPr>
              <a:t>b) Sistematik Felsefe </a:t>
            </a:r>
            <a:br>
              <a:rPr sz="2400"/>
            </a:br>
            <a:br>
              <a:rPr sz="2400"/>
            </a:br>
            <a:r>
              <a:rPr b="0" lang="en-US" sz="2400" spc="-1" strike="noStrike">
                <a:solidFill>
                  <a:srgbClr val="ffffff"/>
                </a:solidFill>
                <a:latin typeface="Tahoma"/>
              </a:rPr>
              <a:t>Felsefe dersini öğrenmenizin amacı; en genel anlamda size düşünme yeteneği kazandırıp yorum gücünüzü geliştirmektir.</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yrıca size önyargısız ve hoşgörülü olmayı öğretir.</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elsefe dersi sorgulama, eleştirme, değerlendirme yapma ve kavrama yeteneğini de sizlere kazandırır. </a:t>
            </a: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ebf25a"/>
                </a:solidFill>
                <a:latin typeface="Tahoma"/>
              </a:rPr>
              <a:t>         </a:t>
            </a:r>
            <a:r>
              <a:rPr b="0" lang="tr-TR" sz="1800" spc="-1" strike="noStrike">
                <a:solidFill>
                  <a:srgbClr val="ebf25a"/>
                </a:solidFill>
                <a:latin typeface="Tahoma"/>
              </a:rPr>
              <a:t>FELSEFE DERSİNE AİT SORULARIN ÖZELLİKLERİ</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Felsefe soruları genellikle paragraf tipli sorulardır.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Bu nedenle okuma ve anlama ile ilgili problemlerinizi öncelikle halletmelisiniz.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Soruyu anlamadan seçeneklere geçmemelisiniz. Değişik gelen, bilinmeyen kelimelerin altı çizilip mutlaka anlamlarını öğrenmelisiniz.</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Sorular çözülürken önce soru kökünü okumalı, ardından paragrafa geçmelisiniz.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Sözel ifadeleri güçlendirmek, yorum gücünü arttırmak, mantıklı ve sistematik düşünmeleri sağlamak bakımından felsefe sorularının çözümü önemlidir. </a:t>
            </a:r>
            <a:br>
              <a:rPr sz="1800"/>
            </a:br>
            <a:br>
              <a:rPr sz="1800"/>
            </a:br>
            <a:br>
              <a:rPr sz="1800"/>
            </a:br>
            <a:r>
              <a:rPr b="0" lang="tr-TR"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ebf25a"/>
                </a:solidFill>
                <a:latin typeface="Tahoma"/>
              </a:rPr>
              <a:t>      </a:t>
            </a:r>
            <a:r>
              <a:rPr b="0" lang="tr-TR" sz="2800" spc="-1" strike="noStrike">
                <a:solidFill>
                  <a:srgbClr val="ebf25a"/>
                </a:solidFill>
                <a:latin typeface="Tahoma"/>
              </a:rPr>
              <a:t>Sınavlarda tecrübenin önemi var mıdır?</a:t>
            </a:r>
            <a:r>
              <a:rPr b="0" lang="tr-TR" sz="2800" spc="-1" strike="noStrike">
                <a:solidFill>
                  <a:srgbClr val="ffffff"/>
                </a:solidFill>
                <a:latin typeface="Tahoma"/>
              </a:rPr>
              <a:t> </a:t>
            </a:r>
            <a:br>
              <a:rPr sz="2800"/>
            </a:b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Sınavdan önce çözülen yüzlerce hatta binlerce sorunun oluşturduğu bilgi birikimi adayın sınavda başarılı olmasını sağlar. </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Çünkü çözülen her soru gerçek sınav öncesi adaya tecrübe kazandıracaktır. Aday bu bilgi birikimiyle sorulara nasıl yaklaşacağını ve soruları nasıl çözeceğini, hangi yolları kullanacağını, ne kadar süre ayıracağını ve nelere dikkat edeceğini öğrenir. </a:t>
            </a:r>
            <a:br>
              <a:rPr sz="2800"/>
            </a:br>
            <a:br>
              <a:rPr sz="2800"/>
            </a:br>
            <a:r>
              <a:rPr b="0" lang="tr-T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                       </a:t>
            </a:r>
            <a:r>
              <a:rPr b="0" lang="tr-TR" sz="2000" spc="-1" strike="noStrike">
                <a:solidFill>
                  <a:srgbClr val="ebf25a"/>
                </a:solidFill>
                <a:latin typeface="Tahoma"/>
              </a:rPr>
              <a:t>Felsefe testi nasıl çözülür? </a:t>
            </a:r>
            <a:br>
              <a:rPr sz="2000"/>
            </a:br>
            <a:endParaRPr b="0" lang="en-US" sz="2000" spc="-1" strike="noStrike">
              <a:solidFill>
                <a:srgbClr val="ffffff"/>
              </a:solidFill>
              <a:latin typeface="Tahoma"/>
            </a:endParaRPr>
          </a:p>
          <a:p>
            <a:pPr marL="335880" indent="-3358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Felsefe testi Türkçedeki paragraf sorularına benzer nitelikler taşır. Soruları çözerken öncelikle soruyu, daha sonra paragrafı okuyarak soruyu cevaplamalısınız. </a:t>
            </a:r>
            <a:br>
              <a:rPr sz="2000"/>
            </a:br>
            <a:r>
              <a:rPr b="0" lang="tr-TR" sz="2000" spc="-1" strike="noStrike">
                <a:solidFill>
                  <a:srgbClr val="ffffff"/>
                </a:solidFill>
                <a:latin typeface="Tahoma"/>
              </a:rPr>
              <a:t> </a:t>
            </a: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ragrafta verilen önemli bilgilerin altını çizerek yanıtlamanız size zaman kazandıracaktır. </a:t>
            </a:r>
            <a:br>
              <a:rPr sz="2000"/>
            </a:br>
            <a:r>
              <a:rPr b="0" lang="tr-TR" sz="2000" spc="-1" strike="noStrike">
                <a:solidFill>
                  <a:srgbClr val="ffffff"/>
                </a:solidFill>
                <a:latin typeface="Tahoma"/>
              </a:rPr>
              <a:t> </a:t>
            </a:r>
            <a:endParaRPr b="0" lang="en-US" sz="2000" spc="-1" strike="noStrike">
              <a:solidFill>
                <a:srgbClr val="ffffff"/>
              </a:solidFill>
              <a:latin typeface="Tahoma"/>
            </a:endParaRPr>
          </a:p>
          <a:p>
            <a:pPr marL="335880" indent="-3358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Soru kalıplarına, soruda vurgulanmak istenilene dikkat etmelisiniz. </a:t>
            </a:r>
            <a:br>
              <a:rPr sz="2000"/>
            </a:br>
            <a:r>
              <a:rPr b="0" lang="tr-TR" sz="2000" spc="-1" strike="noStrike">
                <a:solidFill>
                  <a:srgbClr val="ffffff"/>
                </a:solidFill>
                <a:latin typeface="Tahoma"/>
              </a:rPr>
              <a:t> </a:t>
            </a:r>
            <a:endParaRPr b="0" lang="en-US" sz="2000" spc="-1" strike="noStrike">
              <a:solidFill>
                <a:srgbClr val="ffffff"/>
              </a:solidFill>
              <a:latin typeface="Tahoma"/>
            </a:endParaRPr>
          </a:p>
          <a:p>
            <a:pPr marL="335880" indent="-3358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 </a:t>
            </a:r>
            <a:r>
              <a:rPr b="0" lang="tr-TR" sz="2000" spc="-1" strike="noStrike">
                <a:solidFill>
                  <a:srgbClr val="ffffff"/>
                </a:solidFill>
                <a:latin typeface="Tahoma"/>
              </a:rPr>
              <a:t>Sos-2 testinde, her birinin yaklaşık payı % 17 olan sosyoloji ve mantıktan 5’er soru yer alacaktır.</a:t>
            </a: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sikoloji, sosyoloji ve mantıktan çıkacak olan soruların açıklandığı üzere bilgi gerektiren, kavramaya ve analitik düşünceye dayalı sorular olmaktadır. </a:t>
            </a:r>
            <a:br>
              <a:rPr sz="2000"/>
            </a:br>
            <a:br>
              <a:rPr sz="2000"/>
            </a:br>
            <a:br>
              <a:rPr sz="2000"/>
            </a:br>
            <a:r>
              <a:rPr b="0" lang="tr-TR"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f25a"/>
                </a:solidFill>
                <a:latin typeface="Tahoma"/>
              </a:rPr>
              <a:t>                </a:t>
            </a:r>
            <a:r>
              <a:rPr b="0" lang="en-US" sz="2000" spc="-1" strike="noStrike">
                <a:solidFill>
                  <a:srgbClr val="ebf25a"/>
                </a:solidFill>
                <a:latin typeface="Tahoma"/>
              </a:rPr>
              <a:t>BİYOLOJİ DERSİNİN İÇERİĞİ </a:t>
            </a:r>
            <a:endParaRPr b="0" lang="en-US" sz="2000" spc="-1" strike="noStrike">
              <a:solidFill>
                <a:srgbClr val="ffffff"/>
              </a:solidFill>
              <a:latin typeface="Tahoma"/>
            </a:endParaRPr>
          </a:p>
          <a:p>
            <a:pPr marL="339480" indent="-3394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yoloji, canlıları inceleyen bir bilim dalıdır. Canlılara ait olan olayları pozitif bilim metotlarıyla açıklamaya çalışır. </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yoloji, yaşamsal olaylar arasında ilişki kurup hayatı kolaylaştırır. Sebep-sonuç ilişkileri kurarak yaşamı kavrama ve edinilen bilgilerden faydalanarak problemleri çözmeye çalışır. </a:t>
            </a:r>
            <a:endParaRPr b="0" lang="en-US" sz="2000" spc="-1" strike="noStrike">
              <a:solidFill>
                <a:srgbClr val="ffffff"/>
              </a:solidFill>
              <a:latin typeface="Tahoma"/>
            </a:endParaRPr>
          </a:p>
          <a:p>
            <a:pPr marL="339480" indent="-3394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şte tüm bunlar biyoloji öğrenmenin temel amaçlarıdır. </a:t>
            </a:r>
            <a:br>
              <a:rPr sz="2000"/>
            </a:br>
            <a:br>
              <a:rPr sz="2000"/>
            </a:br>
            <a:r>
              <a:rPr b="0" lang="en-US" sz="2000" spc="-1" strike="noStrike">
                <a:solidFill>
                  <a:srgbClr val="ffffff"/>
                </a:solidFill>
                <a:latin typeface="Tahoma"/>
              </a:rPr>
              <a:t>Biyoloji öğretiminin sonucunda canlılar, sistemler, basit anlamda yaşam ve onu oluşturan unsurlar kavratılır ve bunlar pratik hayatta kullanılabilecek veriye dönüştürülür.</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Biyoloji dersi bilgi ağırlıklı olması sebebiyle anlatımın yanında grafik, şekil, tablo ve şema ile desteklenerek yorum yaptırılan, muhakeme ve karşılaştırma gerektiren, ezberle öğrenilemeyecek, çok önemli bir fen bilimleri dersidir.</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Bazı ünitelerin biyolojide temel olması nedeniyle ilerleyen ünitelere gelince temel konuların tekrar gözden geçirilmesi gerekir. </a:t>
            </a: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95280" y="259920"/>
            <a:ext cx="8229600" cy="56833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ebf25a"/>
                </a:solidFill>
                <a:latin typeface="Tahoma"/>
              </a:rPr>
              <a:t>BİYOLOJİ DERSİNE AİT SORULARIN ÖZELLİKLERİ </a:t>
            </a:r>
            <a:br>
              <a:rPr sz="1800"/>
            </a:b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rular genelde tablo, grafik yorumlama, şekil okuma, bilgi ve muhakeme gerektiren sorulardır.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iyoloji soruları çözülürken öncelikle soru kökü okunmalı, tablo, grafik, şekil, açıklama ve soru verileri daha sonra incelenmelidir.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zı sorular ince ayrıntı içermekte, bazıları ise birkaç konuyu kapsamaktadır. Bu nedenle biyoloji müfredatındaki tüm konuları bilmek gerekir. </a:t>
            </a:r>
            <a:br>
              <a:rPr sz="1800"/>
            </a:b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runun içeriğine göre yanıtımız seçeneklerde aranır, verilen bilgi doğrultusunda eleme yolu kullanılır.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ru çözümünde dikkat etmeniz gereken, soruda sizden ne istendiğini ve seçeneklerde ne verildiğini tam ve doğru olarak anlamaktır.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u da Türkçe’yi kavrama gücü ve dikkatle doğru orantılıdır.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iyoloji dersine ait ÖSS sorularının anlaşılması çok sayıda ve farklı içeriklerde soru çözmekle mümkündür. </a:t>
            </a:r>
            <a:br>
              <a:rPr sz="1800"/>
            </a:b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ebf25a"/>
                </a:solidFill>
                <a:latin typeface="Tahoma"/>
              </a:rPr>
              <a:t>Biyoloji testi nasıl çözülür? </a:t>
            </a:r>
            <a:br>
              <a:rPr sz="1800"/>
            </a:b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ru içerisindeki şekillere dikkat etmelisiniz, </a:t>
            </a:r>
            <a:br>
              <a:rPr sz="1800"/>
            </a:b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Çok uzun olan sorular sizi korkutmamalı, çünkü biyolojide en kolay olduğu söylenen sorular uzun olanlardır, </a:t>
            </a:r>
            <a:br>
              <a:rPr sz="1800"/>
            </a:b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runun esas vurgulanan kısmına dikkat etmelisiniz, </a:t>
            </a:r>
            <a:br>
              <a:rPr sz="1800"/>
            </a:b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ruda verilen bilgilerin hepsini kullanmalısınız, </a:t>
            </a:r>
            <a:br>
              <a:rPr sz="1800"/>
            </a:b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en-2 testindeki soruların daha çok bilgiye dayalı olduğunu unutmamalısınız, </a:t>
            </a:r>
            <a:br>
              <a:rPr sz="1800"/>
            </a:b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onuların unutulmaması için düzenli olarak geçmiş konulardan test çözülerek tekrar etmelisiniz, </a:t>
            </a:r>
            <a:br>
              <a:rPr sz="1800"/>
            </a:br>
            <a:br>
              <a:rPr sz="1800"/>
            </a:b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ebf25a"/>
                </a:solidFill>
                <a:latin typeface="Tahoma"/>
              </a:rPr>
              <a:t>   </a:t>
            </a:r>
            <a:r>
              <a:rPr b="0" lang="tr-TR" sz="2400" spc="-1" strike="noStrike">
                <a:solidFill>
                  <a:srgbClr val="ebf25a"/>
                </a:solidFill>
                <a:latin typeface="Tahoma"/>
              </a:rPr>
              <a:t>SINAVDA VE ÖNCESİNDE HIZLI OKUMA TEKNİKLERİ</a:t>
            </a:r>
            <a:r>
              <a:rPr b="0" lang="tr-TR"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Sınavda hızlı okumak öğrenciye hem zaman hem de daha az yorularak daha fazla soru yapma fırsatı verir. </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Okuma hızımızı artırmak için şu tekniklere dikkat etmemiz gerekir: </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Okunacak materyalle göz arası en az 30 cm . olmalıdır </a:t>
            </a:r>
            <a:br>
              <a:rPr sz="2400"/>
            </a:br>
            <a:br>
              <a:rPr sz="2400"/>
            </a:br>
            <a:r>
              <a:rPr b="0" lang="tr-TR"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Dudaklar kıpırdatılmamalıdır.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Soruları okurken başka şey düşünmemeliyiz.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O tür düşünceler için kendimize başka zaman ayırmalı ve o zamanda düşüneceğimiz yönünde kendimize telkinde bulunmalıyız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Çok parlak ve yetersiz ışıkta okuma yapılmamalıyız. Işığın geliş yönü sol arkadan olmalıdır. </a:t>
            </a: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afamızı hep aynı seviyede tutulmalıyız. .İleri geri sallamamalıyız. Dik oturulmalı, sağa, sola veya öne fazla eğilmemeliyiz.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 durumlar gözümüzün çok çabuk yorulmasına ve satırlar arasında kaymalara sebep olabilir.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kurken mutlaka kılavuz olarak kalem kullanmalı ama okunan her kelimenin altını çizmemeliyiz.</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Çok önemli kelimelerin ve ip uçlarının altını çizmemiz yeterlidir.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kuma yaparken gözlerimizi zaman zaman dinlendirmeliyiz.</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Okuma yaparken gözlerimizi ara sıra kapatıp kaldırıp uzak cisimlere bakmalıyız.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özlerin ara sıra açılıp kapatılması göz kaslarının dinlenmesini ve baş ağrısını önleyecektir.</a:t>
            </a:r>
            <a:endParaRPr b="0" lang="en-US" sz="1800" spc="-1" strike="noStrike">
              <a:solidFill>
                <a:srgbClr val="ffffff"/>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Okuma sırasında belli zamanlarda kısa süreli aralar vermemiz gerekir. </a:t>
            </a:r>
            <a:endParaRPr b="0" lang="en-US" sz="1800" spc="-1" strike="noStrike">
              <a:solidFill>
                <a:srgbClr val="ffffff"/>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u arada kan dolaşımını hızlandıracak teknikler (ayağa kalmak, elleri sallamak, boyunu hareket ettirmek vb.) kullanılmalıdır. </a:t>
            </a:r>
            <a:br>
              <a:rPr sz="1800"/>
            </a:br>
            <a:r>
              <a:rPr b="0" lang="en-US" sz="1800" spc="-1" strike="noStrike">
                <a:solidFill>
                  <a:srgbClr val="ffffff"/>
                </a:solidFill>
                <a:latin typeface="Tahoma"/>
              </a:rPr>
              <a:t> </a:t>
            </a:r>
            <a:endParaRPr b="0" lang="en-US" sz="1800" spc="-1" strike="noStrike">
              <a:solidFill>
                <a:srgbClr val="ffffff"/>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kuma amacımızın olması okuma hızımızı artıracaktır. Ne okuduğumuzu,ne bulmak istediğimizi bilerek okumalıyız.  </a:t>
            </a:r>
            <a:endParaRPr b="0" lang="en-US" sz="1800" spc="-1" strike="noStrike">
              <a:solidFill>
                <a:srgbClr val="ffffff"/>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kunacak malzeme hakkında daha önce bildiklerimizi aklımızdan geçirmemiz faydalı olacaktır. </a:t>
            </a:r>
            <a:endParaRPr b="0" lang="en-US" sz="1800" spc="-1" strike="noStrike">
              <a:solidFill>
                <a:srgbClr val="ffffff"/>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kuma mekânındaki ısı sıcaklığı ne çok soğuk ne çok sıcak olmalıdır. </a:t>
            </a:r>
            <a:endParaRPr b="0" lang="en-US" sz="1800" spc="-1" strike="noStrike">
              <a:solidFill>
                <a:srgbClr val="ffffff"/>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elimeleri tek tek okuma yerine gruplandırarak okumalıyız. Hızlı okuma anlamı kolaylaştırır, daha az yorulmamıza sebep olur, dikkatimizi daha çok toplamamıza yarar.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a:t>
            </a:r>
            <a:r>
              <a:rPr b="0" lang="tr-TR" sz="3200" spc="-1" strike="noStrike">
                <a:solidFill>
                  <a:srgbClr val="ffffff"/>
                </a:solidFill>
                <a:latin typeface="Tahoma"/>
              </a:rPr>
              <a:t>Bana bir problem ve 1 saat süre verilse bu sürenin 45 dakikasını problemi anlamaya, 10 dakikasını çözüm yolları üretmeye,5 dakikasını çözmeye ayırırım”. </a:t>
            </a:r>
            <a:br>
              <a:rPr sz="3200"/>
            </a:br>
            <a:br>
              <a:rPr sz="3200"/>
            </a:br>
            <a:r>
              <a:rPr b="0" lang="tr-TR" sz="3200" spc="-1" strike="noStrike">
                <a:solidFill>
                  <a:srgbClr val="ffffff"/>
                </a:solidFill>
                <a:latin typeface="Tahoma"/>
              </a:rPr>
              <a:t>                                         Einstein </a:t>
            </a:r>
            <a:br>
              <a:rPr sz="3200"/>
            </a:br>
            <a:r>
              <a:rPr b="0" lang="tr-T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95280" y="404280"/>
            <a:ext cx="8229600" cy="5761080"/>
          </a:xfrm>
          <a:prstGeom prst="rect">
            <a:avLst/>
          </a:prstGeom>
          <a:noFill/>
          <a:ln w="0">
            <a:noFill/>
          </a:ln>
        </p:spPr>
        <p:txBody>
          <a:bodyPr lIns="90000" rIns="90000" tIns="46800" bIns="46800"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800" spc="-1" strike="noStrike">
                <a:solidFill>
                  <a:srgbClr val="ebf25a"/>
                </a:solidFill>
                <a:latin typeface="Tahoma"/>
              </a:rPr>
              <a:t>Etkin okuma</a:t>
            </a:r>
            <a:r>
              <a:rPr b="0" lang="en-US" sz="1200" spc="-1" strike="noStrike">
                <a:solidFill>
                  <a:srgbClr val="ffffff"/>
                </a:solidFill>
                <a:latin typeface="Tahoma"/>
              </a:rPr>
              <a:t> </a:t>
            </a:r>
            <a:br>
              <a:rPr sz="1200"/>
            </a:br>
            <a:endParaRPr b="0" lang="en-US" sz="1200" spc="-1" strike="noStrike">
              <a:solidFill>
                <a:srgbClr val="ffffff"/>
              </a:solidFill>
              <a:latin typeface="Tahoma"/>
            </a:endParaRPr>
          </a:p>
          <a:p>
            <a:pPr marL="339480" indent="-3394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aha etkili ders çalışabilmek ve test çözebilmek için izlenecek yöntemlerden biri de etkili okumadır. </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800" spc="-1" strike="noStrike">
                <a:solidFill>
                  <a:srgbClr val="ebf25a"/>
                </a:solidFill>
                <a:latin typeface="Tahoma"/>
              </a:rPr>
              <a:t>Etkili okuma beş basamaktan oluşur:</a:t>
            </a:r>
            <a:r>
              <a:rPr b="0" lang="en-US" sz="1200" spc="-1" strike="noStrike">
                <a:solidFill>
                  <a:srgbClr val="ebf25a"/>
                </a:solidFill>
                <a:latin typeface="Tahoma"/>
              </a:rPr>
              <a:t> </a:t>
            </a:r>
            <a:endParaRPr b="0" lang="en-US" sz="1200" spc="-1" strike="noStrike">
              <a:solidFill>
                <a:srgbClr val="ffffff"/>
              </a:solidFill>
              <a:latin typeface="Tahoma"/>
            </a:endParaRPr>
          </a:p>
          <a:p>
            <a:pPr marL="339480" indent="-3394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f25a"/>
                </a:solidFill>
                <a:latin typeface="Tahoma"/>
              </a:rPr>
              <a:t>İzle:</a:t>
            </a:r>
            <a:r>
              <a:rPr b="0" lang="en-US" sz="1200" spc="-1" strike="noStrike">
                <a:solidFill>
                  <a:srgbClr val="ffffff"/>
                </a:solidFill>
                <a:latin typeface="Tahoma"/>
              </a:rPr>
              <a:t> Çalışılan bölümün hızlı bir şekilde gözden geçirilmesi. Konu ile ilgili ön hazırlık yapılması. (Bu göz gezdirmenin amacı, konu hakkında genel bir fikir edinmektir).</a:t>
            </a:r>
            <a:endParaRPr b="0" lang="en-US" sz="1200" spc="-1" strike="noStrike">
              <a:solidFill>
                <a:srgbClr val="ffffff"/>
              </a:solidFill>
              <a:latin typeface="Tahoma"/>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3394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800" spc="-1" strike="noStrike">
                <a:solidFill>
                  <a:srgbClr val="ffffff"/>
                </a:solidFill>
                <a:latin typeface="Tahoma"/>
              </a:rPr>
              <a:t>Sor:</a:t>
            </a:r>
            <a:r>
              <a:rPr b="0" lang="en-US" sz="1200" spc="-1" strike="noStrike">
                <a:solidFill>
                  <a:srgbClr val="ffffff"/>
                </a:solidFill>
                <a:latin typeface="Tahoma"/>
              </a:rPr>
              <a:t> Göz gezdirilen konu ile ilgili sorular çıkarılmalı ve sorular bir kağıda yazılmalıdır.( Ne , nerede, ne zaman, nasıl, neden ve kim sorularıyla bilgileri desteklemek.) </a:t>
            </a:r>
            <a:br>
              <a:rPr sz="1200"/>
            </a:br>
            <a:r>
              <a:rPr b="0" lang="en-US" sz="1200" spc="-1" strike="noStrike">
                <a:solidFill>
                  <a:srgbClr val="ffffff"/>
                </a:solidFill>
                <a:latin typeface="Tahoma"/>
              </a:rPr>
              <a:t> </a:t>
            </a:r>
            <a:endParaRPr b="0" lang="en-US" sz="12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f25a"/>
                </a:solidFill>
                <a:latin typeface="Tahoma"/>
              </a:rPr>
              <a:t>Oku:</a:t>
            </a:r>
            <a:r>
              <a:rPr b="0" lang="en-US" sz="1200" spc="-1" strike="noStrike">
                <a:solidFill>
                  <a:srgbClr val="ffffff"/>
                </a:solidFill>
                <a:latin typeface="Tahoma"/>
              </a:rPr>
              <a:t> Bu aşamada, çıkartılan sorulara cevap bulmak amacıyla okunmalı ve cevaplar yazılmalıdır.( Konuyu sorular oluşturacak şekilde okumak) </a:t>
            </a:r>
            <a:br>
              <a:rPr sz="1200"/>
            </a:br>
            <a:r>
              <a:rPr b="0" lang="en-US" sz="1200" spc="-1" strike="noStrike">
                <a:solidFill>
                  <a:srgbClr val="ffffff"/>
                </a:solidFill>
                <a:latin typeface="Tahoma"/>
              </a:rPr>
              <a:t> </a:t>
            </a:r>
            <a:endParaRPr b="0" lang="en-US" sz="12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f25a"/>
                </a:solidFill>
                <a:latin typeface="Tahoma"/>
              </a:rPr>
              <a:t>Anlat:</a:t>
            </a:r>
            <a:r>
              <a:rPr b="0" lang="en-US" sz="1200" spc="-1" strike="noStrike">
                <a:solidFill>
                  <a:srgbClr val="ffffff"/>
                </a:solidFill>
                <a:latin typeface="Tahoma"/>
              </a:rPr>
              <a:t> Bu aşamada ise kitap ve defterler kapatılmalı, sadece soru ve cevapların bulunduğu kağıda göz atılarak soruların cevapları yüksek sesle anlatılmalıdır.( Oluşturduğunuz soruları kendi kendinize sorup cevaplandırmak.) </a:t>
            </a:r>
            <a:br>
              <a:rPr sz="1200"/>
            </a:br>
            <a:r>
              <a:rPr b="0" lang="en-US" sz="1200" spc="-1" strike="noStrike">
                <a:solidFill>
                  <a:srgbClr val="ffffff"/>
                </a:solidFill>
                <a:latin typeface="Tahoma"/>
              </a:rPr>
              <a:t> </a:t>
            </a:r>
            <a:endParaRPr b="0" lang="en-US" sz="1200" spc="-1" strike="noStrike">
              <a:solidFill>
                <a:srgbClr val="ffffff"/>
              </a:solidFill>
              <a:latin typeface="Tahoma"/>
            </a:endParaRPr>
          </a:p>
          <a:p>
            <a:pPr marL="339480" indent="-3394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f25a"/>
                </a:solidFill>
                <a:latin typeface="Tahoma"/>
              </a:rPr>
              <a:t>Tekrarla:</a:t>
            </a:r>
            <a:r>
              <a:rPr b="0" lang="en-US" sz="1200" spc="-1" strike="noStrike">
                <a:solidFill>
                  <a:srgbClr val="ffffff"/>
                </a:solidFill>
                <a:latin typeface="Tahoma"/>
              </a:rPr>
              <a:t> Çıkarılmış olan soru ve </a:t>
            </a:r>
            <a:r>
              <a:rPr b="0" lang="en-US" sz="1400" spc="-1" strike="noStrike">
                <a:solidFill>
                  <a:srgbClr val="ffffff"/>
                </a:solidFill>
                <a:latin typeface="Tahoma"/>
              </a:rPr>
              <a:t>cevaplar</a:t>
            </a:r>
            <a:r>
              <a:rPr b="0" lang="en-US" sz="1200" spc="-1" strike="noStrike">
                <a:solidFill>
                  <a:srgbClr val="ffffff"/>
                </a:solidFill>
                <a:latin typeface="Tahoma"/>
              </a:rPr>
              <a:t> hızlı bir biçimde tekrar edilmelidir. </a:t>
            </a:r>
            <a:br>
              <a:rPr sz="1200"/>
            </a:br>
            <a:r>
              <a:rPr b="0" lang="en-US" sz="1200" spc="-1" strike="noStrike">
                <a:solidFill>
                  <a:srgbClr val="ffffff"/>
                </a:solidFill>
                <a:latin typeface="Tahoma"/>
              </a:rPr>
              <a:t> </a:t>
            </a:r>
            <a:endParaRPr b="0" lang="en-US" sz="1200" spc="-1" strike="noStrike">
              <a:solidFill>
                <a:srgbClr val="ffffff"/>
              </a:solidFill>
              <a:latin typeface="Tahoma"/>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3394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tkili öğrenmenin gerçekleşmesi için etkili ve hızlı okuma, tekrar yapma, etkili dinleme, bilinçli not alma ve hafızaya yerleştirme çok önemlidir. (Öğrendiğiniz bilgileri tekrar etmek) </a:t>
            </a:r>
            <a:br>
              <a:rPr sz="1200"/>
            </a:br>
            <a:br>
              <a:rPr sz="1200"/>
            </a:br>
            <a:r>
              <a:rPr b="0" lang="en-US" sz="1200" spc="-1" strike="noStrike">
                <a:solidFill>
                  <a:srgbClr val="ffffff"/>
                </a:solidFill>
                <a:latin typeface="Tahoma"/>
              </a:rPr>
              <a:t> </a:t>
            </a:r>
            <a:endParaRPr b="0" lang="en-US" sz="1200" spc="-1" strike="noStrike">
              <a:solidFill>
                <a:srgbClr val="ffffff"/>
              </a:solidFill>
              <a:latin typeface="Tahoma"/>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ebf25a"/>
                </a:solidFill>
                <a:latin typeface="Tahoma"/>
              </a:rPr>
              <a:t>TURLAMA TEKNİĞİ </a:t>
            </a:r>
            <a:br>
              <a:rPr sz="2800"/>
            </a:b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Üniversite sınavı için sistemli ve sabırlı bir çalışma çok önemli. </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cak uzmanlar, özel taktiklerin de yararına dikkat çekiyor. </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 yöntemle hataları en aza indirip kendinize avantaj sağlayabilirsiniz .</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ÖSS'de kullanılacak küçük tekniklerle başarı oranını artırmak mümkün oluyor.</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n verimli sınav tekniğini araştıran uzmanlar turlama tekniğiyle zaman tasarrufu sağlanabileceğini anlatıyorlar. </a:t>
            </a:r>
            <a:br>
              <a:rPr sz="2800"/>
            </a:b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94920" y="260280"/>
            <a:ext cx="8302680" cy="590544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             </a:t>
            </a:r>
            <a:r>
              <a:rPr b="0" lang="en-US" sz="2800" spc="-1" strike="noStrike">
                <a:solidFill>
                  <a:srgbClr val="ebf25a"/>
                </a:solidFill>
                <a:latin typeface="Tahoma"/>
              </a:rPr>
              <a:t>Tecrübe nasıl kazanılır?</a:t>
            </a:r>
            <a:r>
              <a:rPr b="0" lang="en-US" sz="2800" spc="-1" strike="noStrike">
                <a:solidFill>
                  <a:srgbClr val="ffffff"/>
                </a:solidFill>
                <a:latin typeface="Tahoma"/>
              </a:rPr>
              <a:t> </a:t>
            </a:r>
            <a:endParaRPr b="0" lang="en-US" sz="2800" spc="-1" strike="noStrike">
              <a:solidFill>
                <a:srgbClr val="ffffff"/>
              </a:solidFill>
              <a:latin typeface="Tahoma"/>
            </a:endParaRPr>
          </a:p>
          <a:p>
            <a:pPr marL="335880" indent="-3358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ÖSYS sorularının özellikle yoruma dayalı olması yani bilgiden ziyade öğrencinin bilgi birikimini kullanmayı ölçen nitelikte olması tecrübeli olmayı gerektirmektedir. </a:t>
            </a:r>
            <a:endParaRPr b="0" lang="en-US" sz="2800" spc="-1" strike="noStrike">
              <a:solidFill>
                <a:srgbClr val="ffffff"/>
              </a:solidFill>
              <a:latin typeface="Tahoma"/>
            </a:endParaRPr>
          </a:p>
          <a:p>
            <a:pPr marL="335880" indent="-3358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crübe ise çözülen soru miktarıyla ölçülür. Çözülen her bir soru tipi aday için bir avantajdır. </a:t>
            </a:r>
            <a:endParaRPr b="0" lang="en-US" sz="2800" spc="-1" strike="noStrike">
              <a:solidFill>
                <a:srgbClr val="ffffff"/>
              </a:solidFill>
              <a:latin typeface="Tahoma"/>
            </a:endParaRPr>
          </a:p>
          <a:p>
            <a:pPr marL="335880" indent="-3358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ınava hazırlanan adayın çözemediği her sorunun doğru cevabını öğrenmesi gerekir.</a:t>
            </a:r>
            <a:endParaRPr b="0" lang="en-US" sz="2800" spc="-1" strike="noStrike">
              <a:solidFill>
                <a:srgbClr val="ffffff"/>
              </a:solidFill>
              <a:latin typeface="Tahoma"/>
            </a:endParaRPr>
          </a:p>
          <a:p>
            <a:pPr marL="335880" indent="-3358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u çok önemli bir detaydır. </a:t>
            </a:r>
            <a:endParaRPr b="0" lang="en-US" sz="2800" spc="-1" strike="noStrike">
              <a:solidFill>
                <a:srgbClr val="ffffff"/>
              </a:solidFill>
              <a:latin typeface="Tahoma"/>
            </a:endParaRPr>
          </a:p>
          <a:p>
            <a:pPr marL="335880" indent="-3358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ksi takdirde bu soru tekrar karşısına çıktığında aynı soruda yine takılacak ve bu durum onun için hem zaman hem de motivasyon kaybına neden olacaktır. </a:t>
            </a: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333360"/>
            <a:ext cx="8362800" cy="579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    </a:t>
            </a:r>
            <a:r>
              <a:rPr b="0" lang="en-US" sz="3200" spc="-1" strike="noStrike">
                <a:solidFill>
                  <a:srgbClr val="ebf25a"/>
                </a:solidFill>
                <a:latin typeface="Tahoma"/>
              </a:rPr>
              <a:t>Sınavda Zaman Neden Yetmez? </a:t>
            </a:r>
            <a:br>
              <a:rPr sz="3200"/>
            </a:b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ınavda zamanı iyi kullanmak başarıyı arttıran temel faktörlerdendir.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kat çoğu öğrenci, bunu bilmesine rağmen sınavlarda </a:t>
            </a:r>
            <a:r>
              <a:rPr b="0" lang="en-US" sz="3200" spc="-1" strike="noStrike">
                <a:solidFill>
                  <a:srgbClr val="ebf25a"/>
                </a:solidFill>
                <a:latin typeface="Tahoma"/>
              </a:rPr>
              <a:t>zamanı doğru</a:t>
            </a:r>
            <a:r>
              <a:rPr b="0" lang="en-US" sz="3200" spc="-1" strike="noStrike">
                <a:solidFill>
                  <a:srgbClr val="ffffff"/>
                </a:solidFill>
                <a:latin typeface="Tahoma"/>
              </a:rPr>
              <a:t> </a:t>
            </a:r>
            <a:r>
              <a:rPr b="0" lang="en-US" sz="3200" spc="-1" strike="noStrike">
                <a:solidFill>
                  <a:srgbClr val="ebf25a"/>
                </a:solidFill>
                <a:latin typeface="Tahoma"/>
              </a:rPr>
              <a:t>kullanamamak</a:t>
            </a:r>
            <a:r>
              <a:rPr b="0" lang="en-US" sz="3200" spc="-1" strike="noStrike">
                <a:solidFill>
                  <a:srgbClr val="ffffff"/>
                </a:solidFill>
                <a:latin typeface="Tahoma"/>
              </a:rPr>
              <a:t> en çok karşılaşılan problemlerin başında gelmektedir. </a:t>
            </a:r>
            <a:r>
              <a:rPr b="0" lang="en-US" sz="3200" spc="-1" strike="noStrike">
                <a:solidFill>
                  <a:srgbClr val="ebf25a"/>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f25a"/>
                </a:solidFill>
                <a:latin typeface="Tahoma"/>
              </a:rPr>
              <a:t>            </a:t>
            </a:r>
            <a:r>
              <a:rPr b="0" lang="en-US" sz="1800" spc="-1" strike="noStrike">
                <a:solidFill>
                  <a:srgbClr val="ebf25a"/>
                </a:solidFill>
                <a:latin typeface="Tahoma"/>
              </a:rPr>
              <a:t>Sınavda zamanı doğru ve etkin kullanamama nedenleri: </a:t>
            </a:r>
            <a:br>
              <a:rPr sz="1800"/>
            </a:br>
            <a:br>
              <a:rPr sz="1800"/>
            </a:b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f25a"/>
                </a:solidFill>
                <a:latin typeface="Tahoma"/>
              </a:rPr>
              <a:t>    </a:t>
            </a:r>
            <a:r>
              <a:rPr b="0" lang="en-US" sz="1800" spc="-1" strike="noStrike">
                <a:solidFill>
                  <a:srgbClr val="ebf25a"/>
                </a:solidFill>
                <a:latin typeface="Tahoma"/>
              </a:rPr>
              <a:t>1.</a:t>
            </a:r>
            <a:r>
              <a:rPr b="0" lang="en-US" sz="1800" spc="-1" strike="noStrike">
                <a:solidFill>
                  <a:srgbClr val="ffffff"/>
                </a:solidFill>
                <a:latin typeface="Tahoma"/>
              </a:rPr>
              <a:t> Sınavdaki kolay ve zor test sorularının puansal değerinin aynı olmasına rağmen pek çok öğrenci zor soruları çözmenin, daha fazla puan getireceği düşüncesiyle, zor sorulara takılıp, kalarak daha fazla zaman harcar.</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f25a"/>
                </a:solidFill>
                <a:latin typeface="Tahoma"/>
              </a:rPr>
              <a:t>            </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f25a"/>
                </a:solidFill>
                <a:latin typeface="Tahoma"/>
              </a:rPr>
              <a:t>                   </a:t>
            </a:r>
            <a:r>
              <a:rPr b="0" lang="en-US" sz="1800" spc="-1" strike="noStrike">
                <a:solidFill>
                  <a:srgbClr val="ebf25a"/>
                </a:solidFill>
                <a:latin typeface="Tahoma"/>
              </a:rPr>
              <a:t>Bunun sonucu olarak sınavda başarısızlığa uğrar. </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ebf25a"/>
                </a:solidFill>
                <a:latin typeface="Tahoma"/>
              </a:rPr>
              <a:t>2.</a:t>
            </a:r>
            <a:r>
              <a:rPr b="0" lang="en-US" sz="1800" spc="-1" strike="noStrike">
                <a:solidFill>
                  <a:srgbClr val="ffffff"/>
                </a:solidFill>
                <a:latin typeface="Tahoma"/>
              </a:rPr>
              <a:t> Sınava hangi testten başlanacağının bilinmemesi de zaman harcamanıza neden olan diğer bir faktördür. Genel kural olarak, sınava en başarılı olabileceğiniz testten başlamanız gerekir. </a:t>
            </a:r>
            <a:br>
              <a:rPr sz="1800"/>
            </a:b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f25a"/>
                </a:solidFill>
                <a:latin typeface="Tahoma"/>
              </a:rPr>
              <a:t>    </a:t>
            </a:r>
            <a:r>
              <a:rPr b="0" lang="en-US" sz="1800" spc="-1" strike="noStrike">
                <a:solidFill>
                  <a:srgbClr val="ebf25a"/>
                </a:solidFill>
                <a:latin typeface="Tahoma"/>
              </a:rPr>
              <a:t>3.</a:t>
            </a:r>
            <a:r>
              <a:rPr b="0" lang="en-US" sz="1800" spc="-1" strike="noStrike">
                <a:solidFill>
                  <a:srgbClr val="ffffff"/>
                </a:solidFill>
                <a:latin typeface="Tahoma"/>
              </a:rPr>
              <a:t> Sınavdaki uzun veya karmaşık gibi görünen sorular için çok fazla zaman harcamak, tekrar tekrar okumak yapılan diğer yanlışlıklardandır. </a:t>
            </a:r>
            <a:br>
              <a:rPr sz="1800"/>
            </a:br>
            <a:br>
              <a:rPr sz="1800"/>
            </a:br>
            <a:r>
              <a:rPr b="0" lang="en-US" sz="1800" spc="-1" strike="noStrike">
                <a:solidFill>
                  <a:srgbClr val="ebf25a"/>
                </a:solidFill>
                <a:latin typeface="Tahoma"/>
              </a:rPr>
              <a:t>4</a:t>
            </a:r>
            <a:r>
              <a:rPr b="0" lang="en-US" sz="1800" spc="-1" strike="noStrike">
                <a:solidFill>
                  <a:srgbClr val="ffffff"/>
                </a:solidFill>
                <a:latin typeface="Tahoma"/>
              </a:rPr>
              <a:t>. Sorulardaki "uyarıcılara" dikkat etmemek, soruyu kavramanızı zorlaştırır. Bu da soruyu çözmeniz için gereken sürenin uzamasına neden olur. </a:t>
            </a:r>
            <a:br>
              <a:rPr sz="1800"/>
            </a:br>
            <a:br>
              <a:rPr sz="1800"/>
            </a:br>
            <a:r>
              <a:rPr b="0" lang="en-US" sz="1800" spc="-1" strike="noStrike">
                <a:solidFill>
                  <a:srgbClr val="ebf25a"/>
                </a:solidFill>
                <a:latin typeface="Tahoma"/>
              </a:rPr>
              <a:t>5.</a:t>
            </a:r>
            <a:r>
              <a:rPr b="0" lang="en-US" sz="1800" spc="-1" strike="noStrike">
                <a:solidFill>
                  <a:srgbClr val="ffffff"/>
                </a:solidFill>
                <a:latin typeface="Tahoma"/>
              </a:rPr>
              <a:t> Sınavda " Turlama tekniği " kullanmamak, sıralı çözüm yolunu benimsemek gibi faktörler sınavda zamanı etkili kullanmanızı olumsuz yönde etkiler. </a:t>
            </a:r>
            <a:br>
              <a:rPr sz="1800"/>
            </a:br>
            <a:br>
              <a:rPr sz="1800"/>
            </a:b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  </a:t>
            </a:r>
            <a:r>
              <a:rPr b="0" lang="en-US" sz="2400" spc="-1" strike="noStrike">
                <a:solidFill>
                  <a:srgbClr val="ebf25a"/>
                </a:solidFill>
                <a:latin typeface="Tahoma"/>
              </a:rPr>
              <a:t>TURLAMA TEKNİĞİ NEDİR VE SİZE NE KAZANDIRIYOR?</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ınavda yanıtlanacak tüm testlerde, birinci turda, yanıtı kolayca bulunabilecek soruların öncelikle çözülerek zaman alıcı ve zor soruların ikinci tura bırakılmasına </a:t>
            </a:r>
            <a:r>
              <a:rPr b="0" lang="en-US" sz="2400" spc="-1" strike="noStrike">
                <a:solidFill>
                  <a:srgbClr val="ebf25a"/>
                </a:solidFill>
                <a:latin typeface="Tahoma"/>
              </a:rPr>
              <a:t>TURLAMA TEKNİĞİ</a:t>
            </a:r>
            <a:r>
              <a:rPr b="0" lang="en-US" sz="2400" spc="-1" strike="noStrike">
                <a:solidFill>
                  <a:srgbClr val="ffffff"/>
                </a:solidFill>
                <a:latin typeface="Tahoma"/>
              </a:rPr>
              <a:t> denir.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Öğrenci birinci turda yanıtladığı normal, kolay ve çok kolay sorularla ortalama bir puan elde etmeyi sağlarken, ikinci turda çözeceği zor sorularla, puanı daha da yükseltme şansına sahip olmaktadır.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r Testteki Çok Kolay, Kolay Ve Normal Soruları 1.Turda Çözerek Diğerlerini 2.Tura Bırakmak Başarı Oranınızı Önemli Derecede Yükseltir. </a:t>
            </a:r>
            <a:br>
              <a:rPr sz="2400"/>
            </a:br>
            <a:br>
              <a:rPr sz="2400"/>
            </a:b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ebf25a"/>
                </a:solidFill>
                <a:latin typeface="Tahoma"/>
              </a:rPr>
              <a:t>                                </a:t>
            </a:r>
            <a:r>
              <a:rPr b="0" lang="tr-TR" sz="2000" spc="-1" strike="noStrike">
                <a:solidFill>
                  <a:srgbClr val="ebf25a"/>
                </a:solidFill>
                <a:latin typeface="Tahoma"/>
              </a:rPr>
              <a:t>ZOR SORUYA TAKILMAYIN.</a:t>
            </a:r>
            <a:r>
              <a:rPr b="0" lang="tr-TR" sz="2000" spc="-1" strike="noStrike">
                <a:solidFill>
                  <a:srgbClr val="ffffff"/>
                </a:solidFill>
                <a:latin typeface="Tahoma"/>
              </a:rPr>
              <a:t> </a:t>
            </a:r>
            <a:endParaRPr b="0" lang="en-US" sz="2000" spc="-1" strike="noStrike">
              <a:solidFill>
                <a:srgbClr val="ffffff"/>
              </a:solidFill>
              <a:latin typeface="Tahoma"/>
            </a:endParaRPr>
          </a:p>
          <a:p>
            <a:pPr marL="329040" indent="-32904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Sınavda zamanın yetmemesinin en önemli nedeni, sıralı çözüm yapma alışkanlığıdır. </a:t>
            </a:r>
            <a:endParaRPr b="0" lang="en-US" sz="2000" spc="-1" strike="noStrike">
              <a:solidFill>
                <a:srgbClr val="ffffff"/>
              </a:solidFill>
              <a:latin typeface="Tahoma"/>
            </a:endParaRPr>
          </a:p>
          <a:p>
            <a:pPr marL="329040" indent="-32904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Sıralı çözüm alışkanlığı, öğrencinin yeterince güçlü olmasa dahi, sorularda zor - kolay ayırımı yapmadan ve bir soru başına düşen puan değerinin aynı olduğuna dikkat etmeden soruları sırayla çözmesidir. </a:t>
            </a:r>
            <a:endParaRPr b="0" lang="en-US" sz="2000" spc="-1" strike="noStrike">
              <a:solidFill>
                <a:srgbClr val="ffffff"/>
              </a:solidFill>
              <a:latin typeface="Tahoma"/>
            </a:endParaRPr>
          </a:p>
          <a:p>
            <a:pPr marL="329040" indent="-32904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Turlama Tekniğinin tam tersi olan bu çözüm yolunda, öğrenci, zor ve uğraştırıcı sorulara takılıp gereğinden fazla zaman yitirmektedir.</a:t>
            </a:r>
            <a:endParaRPr b="0" lang="en-US" sz="2000" spc="-1" strike="noStrike">
              <a:solidFill>
                <a:srgbClr val="ffffff"/>
              </a:solidFill>
              <a:latin typeface="Tahoma"/>
            </a:endParaRPr>
          </a:p>
          <a:p>
            <a:pPr marL="329040" indent="-32904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 </a:t>
            </a:r>
            <a:r>
              <a:rPr b="0" lang="tr-TR" sz="2000" spc="-1" strike="noStrike">
                <a:solidFill>
                  <a:srgbClr val="ffffff"/>
                </a:solidFill>
                <a:latin typeface="Tahoma"/>
              </a:rPr>
              <a:t>Öğrenci puanını yükseltmek için, her testin çok zor bir sorusuna ayrılan sürede, aynı testin 5 kolay sorusunu yanıtlamayı tercih etmelidir. </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Ancak belirli bir süre geçtiğinde soru çözülemiyorsa bırakılmalı, sınav bitiminde, süre artarsa tekrar o soruyla uğraşılmalıdır. </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Uzmanlar öncelikle kolay soruların çözümünün yapılması gerektiği üzerinde duruyor. Rehber öğretmenler, başarısı defalarca test edilen turlama tekniğinin sınav sırasında mutlaka kullanılmasını öneriyor </a:t>
            </a:r>
            <a:br>
              <a:rPr sz="2000"/>
            </a:br>
            <a:br>
              <a:rPr sz="2000"/>
            </a:br>
            <a:r>
              <a:rPr b="0" lang="tr-TR" sz="2000" spc="-1" strike="noStrike">
                <a:solidFill>
                  <a:srgbClr val="ffffff"/>
                </a:solidFill>
                <a:latin typeface="Tahoma"/>
              </a:rPr>
              <a:t> </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ebf25a"/>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ebf25a"/>
                </a:solidFill>
                <a:latin typeface="Tahoma"/>
              </a:rPr>
              <a:t>         </a:t>
            </a:r>
            <a:r>
              <a:rPr b="0" lang="tr-TR" sz="1800" spc="-1" strike="noStrike">
                <a:solidFill>
                  <a:srgbClr val="ebf25a"/>
                </a:solidFill>
                <a:latin typeface="Tahoma"/>
              </a:rPr>
              <a:t>ÇÖZÜME HANGİ TESTTEN BAŞLAMAK DAHA DOĞRUDUR?... </a:t>
            </a:r>
            <a:endParaRPr b="0" lang="en-US" sz="18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Testlerin çözüm sırası öğrenciden öğrenciye farklılık gösterir.</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 </a:t>
            </a:r>
            <a:r>
              <a:rPr b="0" lang="tr-TR" sz="2400" spc="-1" strike="noStrike">
                <a:solidFill>
                  <a:srgbClr val="ffffff"/>
                </a:solidFill>
                <a:latin typeface="Tahoma"/>
              </a:rPr>
              <a:t>Önemli olan, öğrenci için zamanlama ve verim açısından en uygun çözüm sırasını, yıl içerisinde yaptığı test çözümü çalışmaları ile bulmasıdır.</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Sınavda testleri hangi sıra ile çözeceğinizi ve her birine ne kadar süre ayıracağınızı deneyerek belirleyin.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Böylece sınavda sizin için ideal zamanlamayı uygulamaya alışırsınız. </a:t>
            </a:r>
            <a:br>
              <a:rPr sz="2400"/>
            </a:br>
            <a:br>
              <a:rPr sz="2400"/>
            </a:br>
            <a:r>
              <a:rPr b="0" lang="tr-TR"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Evde süre tutarak soru çözün, zaman sınırlamasına alışın ve hızlanın. </a:t>
            </a:r>
            <a:endParaRPr b="0" lang="en-US" sz="1600" spc="-1" strike="noStrike">
              <a:solidFill>
                <a:srgbClr val="ffffff"/>
              </a:solidFill>
              <a:latin typeface="Tahoma"/>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3358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Sınava girmeden önce zamanınızı nasıl kullanacağınız konusunda plan yapın </a:t>
            </a:r>
            <a:endParaRPr b="0" lang="en-US" sz="1600" spc="-1" strike="noStrike">
              <a:solidFill>
                <a:srgbClr val="ffffff"/>
              </a:solidFill>
              <a:latin typeface="Tahoma"/>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3358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En başarılı olunan testten başlamak, sınavın başında, her öğrencide belirli bir düzeyde bulanan sınav kaygısının da kontrol altına alınmasına yardımcı olacaktır.</a:t>
            </a:r>
            <a:endParaRPr b="0" lang="en-US" sz="1600" spc="-1" strike="noStrike">
              <a:solidFill>
                <a:srgbClr val="ffffff"/>
              </a:solidFill>
              <a:latin typeface="Tahoma"/>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3358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 </a:t>
            </a:r>
            <a:r>
              <a:rPr b="0" lang="tr-TR" sz="1600" spc="-1" strike="noStrike">
                <a:solidFill>
                  <a:srgbClr val="ffffff"/>
                </a:solidFill>
                <a:latin typeface="Tahoma"/>
              </a:rPr>
              <a:t>Öğrencinin başarılı olacağı testte hata yapma olasılığı azalacağından, panik ve heyecan ortadan kalkacak ve öğrenci dikkatini yoğunlaştırabilecek moral bulacaktır. </a:t>
            </a:r>
            <a:br>
              <a:rPr sz="1600"/>
            </a:br>
            <a:r>
              <a:rPr b="0" lang="tr-TR" sz="1600" spc="-1" strike="noStrike">
                <a:solidFill>
                  <a:srgbClr val="ffffff"/>
                </a:solidFill>
                <a:latin typeface="Tahoma"/>
              </a:rPr>
              <a:t> </a:t>
            </a:r>
            <a:endParaRPr b="0" lang="en-US" sz="1600" spc="-1" strike="noStrike">
              <a:solidFill>
                <a:srgbClr val="ffffff"/>
              </a:solidFill>
              <a:latin typeface="Tahoma"/>
            </a:endParaRPr>
          </a:p>
          <a:p>
            <a:pPr marL="335880" indent="-3358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Bu kendinize olan güveninizi sağlar, sınav kaygısını gidermenize yardımcı olur. Zor soruları ikinci tura bırakın.</a:t>
            </a:r>
            <a:endParaRPr b="0" lang="en-US" sz="1600" spc="-1" strike="noStrike">
              <a:solidFill>
                <a:srgbClr val="ffffff"/>
              </a:solidFill>
              <a:latin typeface="Tahoma"/>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3358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Turlama tekniği ile hata oranını düşürürken zaman kazanırsınız''. Kolay sorulardan başlamaktan kasıt öğrencinin en iyi olduğu alandan soru çözmeye başlamasıdır. </a:t>
            </a:r>
            <a:br>
              <a:rPr sz="1600"/>
            </a:br>
            <a:r>
              <a:rPr b="0" lang="tr-TR" sz="1600" spc="-1" strike="noStrike">
                <a:solidFill>
                  <a:srgbClr val="ffffff"/>
                </a:solidFill>
                <a:latin typeface="Tahoma"/>
              </a:rPr>
              <a:t> </a:t>
            </a:r>
            <a:endParaRPr b="0" lang="en-US" sz="1600" spc="-1" strike="noStrike">
              <a:solidFill>
                <a:srgbClr val="ffffff"/>
              </a:solidFill>
              <a:latin typeface="Tahoma"/>
            </a:endParaRPr>
          </a:p>
          <a:p>
            <a:pPr marL="335880" indent="-3358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Test İçerisindeki Soruların Zorluk Düzeyleri Birbirinden Farklıdır.</a:t>
            </a:r>
            <a:endParaRPr b="0" lang="en-US" sz="1600" spc="-1" strike="noStrike">
              <a:solidFill>
                <a:srgbClr val="ffffff"/>
              </a:solidFill>
              <a:latin typeface="Tahoma"/>
            </a:endParaRPr>
          </a:p>
          <a:p>
            <a:pPr marL="335880" indent="-3358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Ancak Kazandırdıkları Puan Aynıdır.</a:t>
            </a:r>
            <a:r>
              <a:rPr b="0" lang="tr-TR" sz="1600" spc="-1" strike="noStrike">
                <a:solidFill>
                  <a:srgbClr val="ebf25a"/>
                </a:solidFill>
                <a:latin typeface="Tahoma"/>
              </a:rPr>
              <a:t>Zor Sorulara Fazla Puan Verilmez. </a:t>
            </a:r>
            <a:endParaRPr b="0" lang="en-US" sz="1600" spc="-1" strike="noStrike">
              <a:solidFill>
                <a:srgbClr val="ffffff"/>
              </a:solidFill>
              <a:latin typeface="Tahoma"/>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3358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Bir Testin %70?ini Oluşturan Kolay Ve Normal Zorluktaki Soruları Çözebilirsiniz. </a:t>
            </a:r>
            <a:endParaRPr b="0" lang="en-US" sz="1600" spc="-1" strike="noStrike">
              <a:solidFill>
                <a:srgbClr val="ffffff"/>
              </a:solidFill>
              <a:latin typeface="Tahoma"/>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3358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1 soruya 1 dakika süre ayırmanız gerektiğini unutmayın.Sorularla inatlaşırsanız sonlarda yer alan yapabileceğiniz sorulara zamanınız yetmez. </a:t>
            </a:r>
            <a:br>
              <a:rPr sz="1600"/>
            </a:br>
            <a:r>
              <a:rPr b="0" lang="tr-TR" sz="1600" spc="-1" strike="noStrike">
                <a:solidFill>
                  <a:srgbClr val="ffffff"/>
                </a:solidFill>
                <a:latin typeface="Tahoma"/>
              </a:rPr>
              <a:t> </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Turlama Yöntemi Yaptığını Yap Yapamadığını Geç Mantığına Dayanır. </a:t>
            </a:r>
            <a:br>
              <a:rPr sz="2400"/>
            </a:br>
            <a:r>
              <a:rPr b="0" lang="tr-TR"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Bir soruyu okudunuz hakkında hiçbir fikriniz yok ilk turda bu soruyla hiç uğraşmadan geçin. </a:t>
            </a:r>
            <a:br>
              <a:rPr sz="2400"/>
            </a:br>
            <a:r>
              <a:rPr b="0" lang="tr-TR"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Soruyu okudunuz çözümünü biliyorsunuz fakat çözüm yolu uzun ve sizi uğraştıracak vaktiniz alacaktır böyle soruları da ilk turda geçmeniz gerekir. </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İki şıkka indirdiğiniz soruları da ilk turda geçin ikinci turda bu şıkları daha sağlıklı değerlendirme imkanınız olacaktır. </a:t>
            </a:r>
            <a:br>
              <a:rPr sz="2400"/>
            </a:br>
            <a:r>
              <a:rPr b="0" lang="tr-TR"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Okuduğunuzda daha çok zaman alacağını ve zor olduğunu düşündüğünüz soruların yanına işaret koyun. </a:t>
            </a:r>
            <a:br>
              <a:rPr sz="2400"/>
            </a:br>
            <a:br>
              <a:rPr sz="2400"/>
            </a:br>
            <a:r>
              <a:rPr b="0" lang="tr-TR"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fontScale="95000"/>
          </a:bodyPr>
          <a:p>
            <a:pPr marL="325800" indent="-3258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Bir sonraki soruya geçtiğinizde hala önceki çözemediğiniz soruyu düşünmeyin.</a:t>
            </a:r>
            <a:endParaRPr b="0" lang="en-US" sz="3200" spc="-1" strike="noStrike">
              <a:solidFill>
                <a:srgbClr val="ffffff"/>
              </a:solidFill>
              <a:latin typeface="Tahoma"/>
            </a:endParaRPr>
          </a:p>
          <a:p>
            <a:pPr marL="325800" indent="-3258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Sorularda oyalanmadığınız için zamanınız kalacaktır, bunu düşünerek kendinizi rahatlatın. </a:t>
            </a:r>
            <a:endParaRPr b="0" lang="en-US" sz="3200" spc="-1" strike="noStrike">
              <a:solidFill>
                <a:srgbClr val="ffffff"/>
              </a:solidFill>
              <a:latin typeface="Tahoma"/>
            </a:endParaRPr>
          </a:p>
          <a:p>
            <a:pPr marL="325800" indent="-3258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Öte yandan hakkında hiçbir bilginiz olmayan soruları yanıtlamayın. </a:t>
            </a:r>
            <a:endParaRPr b="0" lang="en-US" sz="3200" spc="-1" strike="noStrike">
              <a:solidFill>
                <a:srgbClr val="ffffff"/>
              </a:solidFill>
              <a:latin typeface="Tahoma"/>
            </a:endParaRPr>
          </a:p>
          <a:p>
            <a:pPr marL="325800" indent="-3258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Rastgele işaretleme yapmak size zarar verir. </a:t>
            </a:r>
            <a:br>
              <a:rPr sz="3200"/>
            </a:br>
            <a:br>
              <a:rPr sz="3200"/>
            </a:br>
            <a:r>
              <a:rPr b="0" lang="tr-T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yninize sorular bir kere okuma hakkı verin ve bunu alışkanlık haline getirin.</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ruları bir kere okuma alışkanlığı sizin daha dikkatli olmanızı sağlayacaktır.</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nu bir örnekle açılayalım ,Diyelim ki elinizde on halka var ve bizden demir çubuğa geçirmemiz istense ,beynimiz şöyle düşünecektir, “senin elinde on halka var yani on hakkın var istediğin gibi kullanabilirsin nasıl olsa birini demir çubuğa geçirirsin…” </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ma elimizde bir halka olsa ve bize bir hak verilse biz bu halkayı atarken beynimiz şöyle diyecektir.” Senin tek hakkın var başka hakkın yok bu hakkı iyi kullan ve dikkatli ol….” </a:t>
            </a: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Soruların zorluk derecesini belirleyen uzunlukları, şekilli oluşları ya da karmaşık görünmeleri değil, sadece içerikleridir.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Bir soru belirli bir süre içinde çözülemiyorsa bırakılmalı sınav bitiminde süre artarsa tekrar o soruya dönülmelidir ve soruları sırayla çözme alışkanlığından vazgeçilmelidi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     </a:t>
            </a:r>
            <a:r>
              <a:rPr b="0" lang="en-US" sz="3200" spc="-1" strike="noStrike">
                <a:solidFill>
                  <a:srgbClr val="ebf25a"/>
                </a:solidFill>
                <a:latin typeface="Tahoma"/>
              </a:rPr>
              <a:t>Test çözmede 3 unsur çok önemlidir:</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gi, yorum ve hız.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st tekniğini kazanmak için mutlaka bilgiye ihtiyaç vardır ama aynı zamanda yorum gücünü kazanmak, süreyi iyi kullanmak ve muhakeme gücünü devreye sokabilmek bilgi ile birlikte kullanılan en önemli yardımcılardır. </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68360" y="549360"/>
            <a:ext cx="8229600" cy="403200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gn="ctr">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6600" spc="-1" strike="noStrike">
                <a:solidFill>
                  <a:srgbClr val="ebf25a"/>
                </a:solidFill>
                <a:latin typeface="Tahoma"/>
              </a:rPr>
              <a:t>SINAVLARDA </a:t>
            </a:r>
            <a:endParaRPr b="0" lang="en-US" sz="6600" spc="-1" strike="noStrike">
              <a:solidFill>
                <a:srgbClr val="ffffff"/>
              </a:solidFill>
              <a:latin typeface="Tahoma"/>
            </a:endParaRPr>
          </a:p>
          <a:p>
            <a:pPr marL="332640" indent="0" algn="ctr">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bf25a"/>
                </a:solidFill>
                <a:latin typeface="Tahoma"/>
              </a:rPr>
              <a:t>BAŞARILAR DİLERİZ.</a:t>
            </a:r>
            <a:endParaRPr b="0" lang="en-US" sz="66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f25a"/>
                </a:solidFill>
                <a:latin typeface="Tahoma"/>
              </a:rPr>
              <a:t>Test tekniğini kavramak test çözme becerisi kazanmak için neler yapmalıyız?</a:t>
            </a:r>
            <a:r>
              <a:rPr b="0" lang="en-US" sz="2000" spc="-1" strike="noStrike">
                <a:solidFill>
                  <a:srgbClr val="ffffff"/>
                </a:solidFill>
                <a:latin typeface="Tahoma"/>
              </a:rPr>
              <a:t> </a:t>
            </a: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335880" indent="-3358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ınav hazırlık aşamasında yapmamız gerekenler; </a:t>
            </a:r>
            <a:br>
              <a:rPr sz="1800"/>
            </a:br>
            <a:r>
              <a:rPr b="0" lang="en-US" sz="1800" spc="-1" strike="noStrike">
                <a:solidFill>
                  <a:srgbClr val="ffffff"/>
                </a:solidFill>
                <a:latin typeface="Tahoma"/>
              </a:rPr>
              <a:t> </a:t>
            </a:r>
            <a:endParaRPr b="0" lang="en-US" sz="1800" spc="-1" strike="noStrike">
              <a:solidFill>
                <a:srgbClr val="ffffff"/>
              </a:solidFill>
              <a:latin typeface="Tahoma"/>
            </a:endParaRPr>
          </a:p>
          <a:p>
            <a:pPr marL="335880" indent="-3358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Bir konuyla ilgili soruları çözmeden önce o konuyu iyi öğrenmemiz gerekir. Soru çözerek de öğrenip öğrenmediğimizi kontrol etmiş oluruz. </a:t>
            </a:r>
            <a:br>
              <a:rPr sz="1800"/>
            </a:br>
            <a:r>
              <a:rPr b="0" lang="en-US" sz="1800" spc="-1" strike="noStrike">
                <a:solidFill>
                  <a:srgbClr val="ffffff"/>
                </a:solidFill>
                <a:latin typeface="Tahoma"/>
              </a:rPr>
              <a:t> </a:t>
            </a:r>
            <a:endParaRPr b="0" lang="en-US" sz="1800" spc="-1" strike="noStrike">
              <a:solidFill>
                <a:srgbClr val="ffffff"/>
              </a:solidFill>
              <a:latin typeface="Tahoma"/>
            </a:endParaRPr>
          </a:p>
          <a:p>
            <a:pPr marL="335880" indent="-3358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eni öğrendiğimiz konularla ilgili soru çözerken kolaydan zora doğru bir yol izlersek öğrenmemiz daha da kolaylaşacaktır. </a:t>
            </a:r>
            <a:br>
              <a:rPr sz="1800"/>
            </a:br>
            <a:r>
              <a:rPr b="0" lang="en-US" sz="1800" spc="-1" strike="noStrike">
                <a:solidFill>
                  <a:srgbClr val="ffffff"/>
                </a:solidFill>
                <a:latin typeface="Tahoma"/>
              </a:rPr>
              <a:t> </a:t>
            </a:r>
            <a:endParaRPr b="0" lang="en-US" sz="1800" spc="-1" strike="noStrike">
              <a:solidFill>
                <a:srgbClr val="ffffff"/>
              </a:solidFill>
              <a:latin typeface="Tahoma"/>
            </a:endParaRPr>
          </a:p>
          <a:p>
            <a:pPr marL="335880" indent="-3358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Öğrendiğimiz her konuyla ilgili konuya hakim oluncaya dek yeterince soru çözmemiz gerekir ki konuyu iyice kavrayalım. </a:t>
            </a:r>
            <a:br>
              <a:rPr sz="1800"/>
            </a:br>
            <a:r>
              <a:rPr b="0" lang="en-US" sz="1800" spc="-1" strike="noStrike">
                <a:solidFill>
                  <a:srgbClr val="ffffff"/>
                </a:solidFill>
                <a:latin typeface="Tahoma"/>
              </a:rPr>
              <a:t> </a:t>
            </a:r>
            <a:endParaRPr b="0" lang="en-US" sz="1800" spc="-1" strike="noStrike">
              <a:solidFill>
                <a:srgbClr val="ffffff"/>
              </a:solidFill>
              <a:latin typeface="Tahoma"/>
            </a:endParaRPr>
          </a:p>
          <a:p>
            <a:pPr marL="335880" indent="-3358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Her gün belirli miktarda soru çözmeye çalışarak, soru çözmeyi bir alışkanlık haline getirmeliyiz. </a:t>
            </a:r>
            <a:br>
              <a:rPr sz="1800"/>
            </a:br>
            <a:r>
              <a:rPr b="0" lang="en-US" sz="1800" spc="-1" strike="noStrike">
                <a:solidFill>
                  <a:srgbClr val="ffffff"/>
                </a:solidFill>
                <a:latin typeface="Tahoma"/>
              </a:rPr>
              <a:t> </a:t>
            </a:r>
            <a:endParaRPr b="0" lang="en-US" sz="1800" spc="-1" strike="noStrike">
              <a:solidFill>
                <a:srgbClr val="ffffff"/>
              </a:solidFill>
              <a:latin typeface="Tahoma"/>
            </a:endParaRPr>
          </a:p>
          <a:p>
            <a:pPr marL="335880" indent="-3358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ınav sadece bilgiyi değil bilgi kullanma hızını da ölçmektedir. Bu yüzden soruları resmi süre olan bir dakikaya bağlı kalarak soru çözmeliyiz. </a:t>
            </a:r>
            <a:endParaRPr b="0" lang="en-US" sz="1800" spc="-1" strike="noStrike">
              <a:solidFill>
                <a:srgbClr val="ffffff"/>
              </a:solidFill>
              <a:latin typeface="Tahoma"/>
            </a:endParaRPr>
          </a:p>
          <a:p>
            <a:pPr marL="335880" indent="-3358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Çünkü zamana karşı yarışıyoruz. </a:t>
            </a:r>
            <a:br>
              <a:rPr sz="1800"/>
            </a:br>
            <a:br>
              <a:rPr sz="1800"/>
            </a:b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800" spc="-1" strike="noStrike">
                <a:solidFill>
                  <a:srgbClr val="ffffff"/>
                </a:solidFill>
                <a:latin typeface="Tahoma"/>
              </a:rPr>
              <a:t>Mümkün olduğunca farklı soru tarzları çözmeli, farklı soru kaynaklarından yararlanmalıyız.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ınavda başarılı olabilmek için çözdüğünüz soruların ÖSS niteliğine uygun olmasına dikkat etmelisiniz.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ınavlarda sürenin sonuna kadar kalmayı alışkanlık haline getirmelisiniz. Aksi takdirde gerçek sınavda da sıkılabilir erken çıkmak isteyebilirsiniz. Ancak yapmanız gereken sınavın sonuna kadar bekleyip son dakikaya kadar süreyi kullanmanızdır. </a:t>
            </a:r>
            <a:br>
              <a:rPr sz="1800"/>
            </a:b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or soruları çözmeye çalışmakta ısrar etmeyin onları daha sonra sormak için not edin. Gerçek sınavda ise en sona bırakın. Unutmayın ki zor soruyu yapan değil çok soruyu yapan sınavı kazanır.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Her sınavda çözemeyeceğiniz sorular çıkabilir bu sizi yıldırmasın, moralinizi bozmasın.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anlış çözdüğünüz sorulardan dolayı karamsarlığa düşmeyin. Çünkü her yanlış çözdüğünüz soru eğer doğru çözümünü öğrenirseniz sizin için bir kazançtır.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Çözemediğiniz soruları düşünerek stres yapmayın. Herkesin çözemeyeceği sorular mutlaka çıkar. </a:t>
            </a:r>
            <a:br>
              <a:rPr sz="1800"/>
            </a:br>
            <a:br>
              <a:rPr sz="1800"/>
            </a:b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7T11:50:19Z</dcterms:created>
  <dc:creator>ARAÇ İHL</dc:creator>
  <dc:description/>
  <dc:language>en-US</dc:language>
  <cp:lastModifiedBy>ARAÇ İHL</cp:lastModifiedBy>
  <dcterms:modified xsi:type="dcterms:W3CDTF">2008-12-27T17:23:57Z</dcterms:modified>
  <cp:revision>75</cp:revision>
  <dc:subject/>
  <dc:title>Slayt 1</dc:title>
</cp:coreProperties>
</file>