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A2005-B7B1-4D2E-9684-D1FE04FDC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0752A-FC40-4969-A210-FD840AB99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9FB1F-EEC7-4E4B-95B7-1F61A4E12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749B7-3403-42E0-8D3B-36CE715DB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CFE1C-FE25-48BE-B9C5-63AE06614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81DAC-5CE9-4266-85DE-EFC96E388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50CFB-21A5-4878-A076-A46F28E7B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77D69-C773-49DB-B557-F47110C92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ACFD9-33A8-43CD-920C-DA7010252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15E17-2911-4BB1-B784-4029E45DF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BAFDC-F9E5-406C-BAEC-6CD4AB213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E45BB-709A-475F-97E9-094625ED5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973F9-5EEA-4701-AABC-FD963BEF18D3}" type="slidenum">
              <a:rPr b="0" lang="tr-T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0000"/>
                </a:solidFill>
                <a:latin typeface="Arial"/>
              </a:rPr>
              <a:t>Ekeylem(ek-fiil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İsim soylu sözcüklerin yüklem olmalarını </a:t>
            </a:r>
            <a:r>
              <a:rPr b="0" lang="tr-TR" sz="3200" spc="-1" strike="noStrike">
                <a:solidFill>
                  <a:srgbClr val="009999"/>
                </a:solidFill>
                <a:latin typeface="Arial"/>
              </a:rPr>
              <a:t>veya </a:t>
            </a: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fiillerin birleşik zamanlı hale gelmesini sağlayan eklerdi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333399"/>
                </a:solidFill>
                <a:latin typeface="Arial"/>
              </a:rPr>
              <a:t>Ekeylemin mastarı ”-imek”;kökü,yani kendisi “-i”di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9999"/>
                </a:solidFill>
                <a:latin typeface="Arial"/>
              </a:rPr>
              <a:t>Ekeylemin Görevleri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1.İsim veya isim soylu sözcüğün yüklem olmasını sağl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Örnek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-Bugün hava </a:t>
            </a:r>
            <a:r>
              <a:rPr b="0" lang="tr-TR" sz="2800" spc="-1" strike="noStrike">
                <a:solidFill>
                  <a:srgbClr val="009999"/>
                </a:solidFill>
                <a:latin typeface="Arial"/>
              </a:rPr>
              <a:t>sıcaktı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-Sen kardeşinden</a:t>
            </a:r>
            <a:r>
              <a:rPr b="0" lang="tr-TR" sz="2800" spc="-1" strike="noStrike">
                <a:solidFill>
                  <a:srgbClr val="009999"/>
                </a:solidFill>
                <a:latin typeface="Arial"/>
              </a:rPr>
              <a:t> akıllısı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2.Eylemlerin birleşik zamanlı olarak çekimlenmesini sağlar.Ekeylemlerin-idi,-imiş,-se biçimleri haber ve dilek kiplerinden sonra gelerek birleşik zamanlı fiil olurl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Örnek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-Bil-iyor-</a:t>
            </a:r>
            <a:r>
              <a:rPr b="0" lang="tr-TR" sz="2800" spc="-1" strike="noStrike">
                <a:solidFill>
                  <a:srgbClr val="009999"/>
                </a:solidFill>
                <a:latin typeface="Arial"/>
              </a:rPr>
              <a:t>du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-m,anla-r-</a:t>
            </a:r>
            <a:r>
              <a:rPr b="0" lang="tr-TR" sz="2800" spc="-1" strike="noStrike">
                <a:solidFill>
                  <a:srgbClr val="009999"/>
                </a:solidFill>
                <a:latin typeface="Arial"/>
              </a:rPr>
              <a:t>mış,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gör-müş-</a:t>
            </a:r>
            <a:r>
              <a:rPr b="0" lang="tr-TR" sz="2800" spc="-1" strike="noStrike">
                <a:solidFill>
                  <a:srgbClr val="009999"/>
                </a:solidFill>
                <a:latin typeface="Arial"/>
              </a:rPr>
              <a:t>se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-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cc0000"/>
                </a:solidFill>
                <a:latin typeface="Arial"/>
              </a:rPr>
              <a:t>UYARI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Ekeylemin “-dır” biçimi birleşik zamanlı eylem yapmaz.Bu ek,çekimli fiile </a:t>
            </a:r>
            <a:r>
              <a:rPr b="0" lang="tr-TR" sz="3200" spc="-1" strike="noStrike">
                <a:solidFill>
                  <a:srgbClr val="009999"/>
                </a:solidFill>
                <a:latin typeface="Arial"/>
              </a:rPr>
              <a:t>kesinlik </a:t>
            </a: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veya </a:t>
            </a:r>
            <a:r>
              <a:rPr b="0" lang="tr-TR" sz="3200" spc="-1" strike="noStrike">
                <a:solidFill>
                  <a:srgbClr val="009999"/>
                </a:solidFill>
                <a:latin typeface="Arial"/>
              </a:rPr>
              <a:t>olasılık</a:t>
            </a: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 anlamı kat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9999"/>
                </a:solidFill>
                <a:latin typeface="Arial"/>
              </a:rPr>
              <a:t>Örnek:</a:t>
            </a: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İşyerinde bizi bekliyordur.(Olasılı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-O da bizimle gelmelidir.(Kesinli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Hazılayan:Betül KELEB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000000"/>
                </a:solidFill>
                <a:latin typeface="Arial"/>
              </a:rPr>
              <a:t>Ekeylemin 2 görevi vardır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1- İsim soylu sözcüğün yüklem olmasını sağl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Bugün hava </a:t>
            </a:r>
            <a:r>
              <a:rPr b="0" lang="tr-TR" sz="3200" spc="-1" strike="noStrike" u="sng">
                <a:solidFill>
                  <a:srgbClr val="000000"/>
                </a:solidFill>
                <a:uFillTx/>
                <a:latin typeface="Arial"/>
              </a:rPr>
              <a:t>sıcaktı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Dün seni arayan </a:t>
            </a:r>
            <a:r>
              <a:rPr b="0" lang="tr-TR" sz="3200" spc="-1" strike="noStrike" u="sng">
                <a:solidFill>
                  <a:srgbClr val="000000"/>
                </a:solidFill>
                <a:uFillTx/>
                <a:latin typeface="Arial"/>
              </a:rPr>
              <a:t>bend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Sen,kardeşinden </a:t>
            </a:r>
            <a:r>
              <a:rPr b="0" lang="tr-TR" sz="3200" spc="-1" strike="noStrike" u="sng">
                <a:solidFill>
                  <a:srgbClr val="000000"/>
                </a:solidFill>
                <a:uFillTx/>
                <a:latin typeface="Arial"/>
              </a:rPr>
              <a:t>akıllısı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2- Fiillerin birleşik zamanlı hale gelmesini sağl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009999"/>
                </a:solidFill>
                <a:latin typeface="Arial"/>
              </a:rPr>
              <a:t>Birleşik Zamanlı Fiil:Bir fiilde birden fazla zaman bulunmasıdı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0000"/>
                </a:solidFill>
                <a:latin typeface="Arial"/>
              </a:rPr>
              <a:t>Örnekler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Bil-iyor-</a:t>
            </a:r>
            <a:r>
              <a:rPr b="0" lang="tr-TR" sz="3200" spc="-1" strike="noStrike">
                <a:solidFill>
                  <a:srgbClr val="009999"/>
                </a:solidFill>
                <a:latin typeface="Arial"/>
              </a:rPr>
              <a:t>du</a:t>
            </a: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-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Anla-r-</a:t>
            </a:r>
            <a:r>
              <a:rPr b="0" lang="tr-TR" sz="3200" spc="-1" strike="noStrike">
                <a:solidFill>
                  <a:srgbClr val="009999"/>
                </a:solidFill>
                <a:latin typeface="Arial"/>
              </a:rPr>
              <a:t>mı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Gör-müş-</a:t>
            </a:r>
            <a:r>
              <a:rPr b="0" lang="tr-TR" sz="3200" spc="-1" strike="noStrike">
                <a:solidFill>
                  <a:srgbClr val="009999"/>
                </a:solidFill>
                <a:latin typeface="Arial"/>
              </a:rPr>
              <a:t>se</a:t>
            </a: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-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Bu uzun konuşmanın,özeti budu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O da bizimle gelirmiş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Yukarıdaki cümlelerde ekfiilleri bulunuz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0000"/>
                </a:solidFill>
                <a:latin typeface="Arial"/>
              </a:rPr>
              <a:t>Ekeylemin Çekimi Nasıldı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4 çekim biçimi vardı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99cc00"/>
                </a:solidFill>
                <a:latin typeface="Arial"/>
              </a:rPr>
              <a:t>1-Belirli Geçmiş Zaman Biçim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-Ekeylemin kendisine-dı(-di) eki getirilerek yapılı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009999"/>
                </a:solidFill>
                <a:latin typeface="Arial"/>
              </a:rPr>
              <a:t>-idi-m,-idin,-idi;-idik,-idiniz-idil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000000"/>
                </a:solidFill>
                <a:latin typeface="Arial"/>
              </a:rPr>
              <a:t>Sağlamdım,sağlamdın,sağlamdı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000000"/>
                </a:solidFill>
                <a:latin typeface="Arial"/>
              </a:rPr>
              <a:t>sağlamdık,sağlamdınız,sağlamdıl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000000"/>
                </a:solidFill>
                <a:latin typeface="Arial"/>
              </a:rPr>
              <a:t>Örnek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000000"/>
                </a:solidFill>
                <a:latin typeface="Arial"/>
              </a:rPr>
              <a:t>aile sözcüğünü ekfiilin bilinen geçmiş biçimiyle çekimleyiniz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Aileydim,aileydin,aileydi;aileydik,aileydiniz,aileydil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99cc00"/>
                </a:solidFill>
                <a:latin typeface="Arial"/>
              </a:rPr>
              <a:t>2-Belirsiz Geçmiş Zaman Biçimi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-Ekeylemin kendisine-mış(-miş) eki getirilerek yapılı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000000"/>
                </a:solidFill>
                <a:latin typeface="Arial"/>
              </a:rPr>
              <a:t>-imişim,-imişsin,-imiş;-imişiz,-imişsiniz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000000"/>
                </a:solidFill>
                <a:latin typeface="Arial"/>
              </a:rPr>
              <a:t>-imişl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000000"/>
                </a:solidFill>
                <a:latin typeface="Arial"/>
              </a:rPr>
              <a:t>Hastaymışım</a:t>
            </a:r>
            <a:r>
              <a:rPr b="1" lang="tr-T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3200" spc="-1" strike="noStrike">
                <a:solidFill>
                  <a:srgbClr val="000000"/>
                </a:solidFill>
                <a:latin typeface="Arial"/>
              </a:rPr>
              <a:t>Hastaymışı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000000"/>
                </a:solidFill>
                <a:latin typeface="Arial"/>
              </a:rPr>
              <a:t>Hastaymışsın</a:t>
            </a:r>
            <a:r>
              <a:rPr b="1" lang="tr-T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3200" spc="-1" strike="noStrike">
                <a:solidFill>
                  <a:srgbClr val="000000"/>
                </a:solidFill>
                <a:latin typeface="Arial"/>
              </a:rPr>
              <a:t>Hastaymışsını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000000"/>
                </a:solidFill>
                <a:latin typeface="Arial"/>
              </a:rPr>
              <a:t>Hastaymış</a:t>
            </a:r>
            <a:r>
              <a:rPr b="1" lang="tr-T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3200" spc="-1" strike="noStrike">
                <a:solidFill>
                  <a:srgbClr val="000000"/>
                </a:solidFill>
                <a:latin typeface="Arial"/>
              </a:rPr>
              <a:t>Hastalarmı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0000"/>
                </a:solidFill>
                <a:latin typeface="Arial"/>
              </a:rPr>
              <a:t>Örnek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99cc00"/>
                </a:solidFill>
                <a:latin typeface="Arial"/>
              </a:rPr>
              <a:t>Zararlı sözcüğünü ekeylemin belirsiz geçmiş zamanı biçiminde çekimleyiniz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Zararlıymışı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Zararlıymışsı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Zararlıymı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Zararlıymışı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Zararlıymışsını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Zararlılarmı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9999"/>
                </a:solidFill>
                <a:latin typeface="Arial"/>
              </a:rPr>
              <a:t>3-Koşul(şart)Kipi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Ekeylemin kendisine”-sa,-se”eki ile uygun kişi ekleri getirilerek yapılı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-isem,-isen,-ise;-isek,-iseniz,-isel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Örnek:İşin </a:t>
            </a:r>
            <a:r>
              <a:rPr b="0" lang="tr-TR" sz="3200" spc="-1" strike="noStrike">
                <a:solidFill>
                  <a:srgbClr val="009999"/>
                </a:solidFill>
                <a:latin typeface="Arial"/>
              </a:rPr>
              <a:t>yoksa</a:t>
            </a: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 sen de katıl biz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9999"/>
                </a:solidFill>
                <a:latin typeface="Arial"/>
              </a:rPr>
              <a:t>4-Geniş Zaman Kipi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Ekeylemin bu biçimi”-dır(-dir)eki ile yapılır.Ancak günümüzde bu ek çoğu zaman düşer,ekin görevini kişi ekleri üstleni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9999"/>
                </a:solidFill>
                <a:latin typeface="Arial"/>
              </a:rPr>
              <a:t>Örnek:</a:t>
            </a: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Hastayım,hastasın,hastadır;hastayız,hastasınız,hastadırl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8T19:58:29Z</dcterms:created>
  <dc:creator>Home</dc:creator>
  <dc:description/>
  <dc:language>en-US</dc:language>
  <cp:lastModifiedBy>Home</cp:lastModifiedBy>
  <dcterms:modified xsi:type="dcterms:W3CDTF">2010-04-10T19:24:40Z</dcterms:modified>
  <cp:revision>4</cp:revision>
  <dc:subject/>
  <dc:title>Ekeylem(ek-fiil)</dc:title>
</cp:coreProperties>
</file>