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BE79-CF31-4C1D-8DEE-0049CD04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3110-163E-4056-991D-332901C3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8CE3-DF24-46A4-B91C-8A3664F5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BA6F-415F-47B1-B93D-C0EE7AFCB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829-E7FC-4F12-BD6A-A673A6B9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1A9-43E7-4E27-9BF8-DEDD7CDE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70E4-B574-4B8C-95D1-6367900D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5DB-BB19-4029-823A-947A537C0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9A1D-2190-4CD8-BF12-0F3FBD2F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038A-1F59-4EC7-B7BF-8350F107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B93-DDB8-477A-A9A4-6E8BD81C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0952-E368-4C81-B653-6686F6C2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50000">
              <a:srgbClr val="9999ff"/>
            </a:gs>
            <a:gs pos="100000">
              <a:srgbClr val="46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6247-3FA3-4808-BAAC-C0C11E798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debiyatogretmeni.net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50000">
              <a:srgbClr val="9999ff"/>
            </a:gs>
            <a:gs pos="100000">
              <a:srgbClr val="46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ELİME GRUPLA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İSİM TAMLAMAL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FAT TAMLAMAL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İSİM-FİİL GRU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FAT FİİL GRU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RF-FİİL GRU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İRLEŞİK FİİL GRU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debiyatogretmeni.ne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3280" y="1773360"/>
            <a:ext cx="410544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DAT GRU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ĞLAMA GRU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KRAR GRU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ÜNLEM GRU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VAN GRU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9280" y="549000"/>
            <a:ext cx="8209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FAT ÇEŞİTLER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Niteleme Sıfatlar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Belirtme Sıfatlar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İşaret Sıfatlar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Sayı Sıfatlar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Soru Sıfatlar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)Belirsizlik Sıfatlar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Mavi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gömleğin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iymiş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ınavdan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yükse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pu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ldı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O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çocuğ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anıma alıyor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Üç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kitab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ana aldı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Nasıl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kitaplarda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oşlanıyorsu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Bazı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insan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ülke sorunlarına çok duyarsı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Her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gü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6600"/>
                </a:solidFill>
                <a:uFillTx/>
                <a:latin typeface="Arial"/>
              </a:rPr>
              <a:t>bir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lm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yer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7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İSİM-FİİL GRUB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100000">
              <a:srgbClr val="752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Her yapıdaki fiillerden –mek , -me , -iş ekleriyle türeyen,türediği fiillerin ismi olan fiil türevlerine  isim-fiil denir.İsim-fiillerin oluşturduğu söz öbeğine ise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isim-fiil grubu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den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ÖR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Arial"/>
              </a:rPr>
              <a:t>b.nesne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tr-TR" sz="1000" spc="-1" strike="noStrike">
                <a:solidFill>
                  <a:srgbClr val="ffffff"/>
                </a:solidFill>
                <a:latin typeface="Arial"/>
              </a:rPr>
              <a:t>z.t  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tr-TR" sz="1000" spc="-1" strike="noStrike">
                <a:solidFill>
                  <a:srgbClr val="ffffff"/>
                </a:solidFill>
                <a:latin typeface="Arial"/>
              </a:rPr>
              <a:t>yükl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ffffff"/>
                </a:solidFill>
                <a:uFillTx/>
                <a:latin typeface="Arial"/>
              </a:rPr>
              <a:t>Konuyu çabucak kavray</a:t>
            </a:r>
            <a:r>
              <a:rPr b="1" lang="tr-TR" sz="2400" spc="-1" strike="noStrike" u="sng">
                <a:solidFill>
                  <a:srgbClr val="ffffff"/>
                </a:solidFill>
                <a:uFillTx/>
                <a:latin typeface="Arial"/>
              </a:rPr>
              <a:t>ış</a:t>
            </a:r>
            <a:r>
              <a:rPr b="0" lang="tr-TR" sz="2400" spc="-1" strike="noStrike" u="sng">
                <a:solidFill>
                  <a:srgbClr val="ffffff"/>
                </a:solidFill>
                <a:uFillTx/>
                <a:latin typeface="Arial"/>
              </a:rPr>
              <a:t>ına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şaşırdı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tr-TR" sz="1000" spc="-1" strike="noStrike">
                <a:solidFill>
                  <a:srgbClr val="ffffff"/>
                </a:solidFill>
                <a:latin typeface="Arial"/>
              </a:rPr>
              <a:t>Dolaylı Tümle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tr-TR" sz="1400" spc="-1" strike="noStrike">
                <a:solidFill>
                  <a:srgbClr val="ffffff"/>
                </a:solidFill>
                <a:latin typeface="Arial"/>
              </a:rPr>
              <a:t>özne                             yük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en de </a:t>
            </a:r>
            <a:r>
              <a:rPr b="0" lang="tr-TR" sz="2400" spc="-1" strike="noStrike" u="sng">
                <a:solidFill>
                  <a:srgbClr val="ffffff"/>
                </a:solidFill>
                <a:uFillTx/>
                <a:latin typeface="Arial"/>
              </a:rPr>
              <a:t>güzel oyunlar oyna</a:t>
            </a:r>
            <a:r>
              <a:rPr b="1" lang="tr-TR" sz="2400" spc="-1" strike="noStrike" u="sng">
                <a:solidFill>
                  <a:srgbClr val="ffffff"/>
                </a:solidFill>
                <a:uFillTx/>
                <a:latin typeface="Arial"/>
              </a:rPr>
              <a:t>ma</a:t>
            </a:r>
            <a:r>
              <a:rPr b="0" lang="tr-TR" sz="2400" spc="-1" strike="noStrike" u="sng">
                <a:solidFill>
                  <a:srgbClr val="ffffff"/>
                </a:solidFill>
                <a:uFillTx/>
                <a:latin typeface="Arial"/>
              </a:rPr>
              <a:t>yı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bilir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tr-TR" sz="1000" spc="-1" strike="noStrike">
                <a:solidFill>
                  <a:srgbClr val="ffffff"/>
                </a:solidFill>
                <a:latin typeface="Arial"/>
              </a:rPr>
              <a:t>Belirtili Nes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tr-TR" sz="1600" spc="-1" strike="noStrike">
                <a:solidFill>
                  <a:srgbClr val="ffffff"/>
                </a:solidFill>
                <a:latin typeface="Arial"/>
              </a:rPr>
              <a:t>dolaylı tümleç                 dolaylı tümleç     z.t.       yük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ffffff"/>
                </a:solidFill>
                <a:uFillTx/>
                <a:latin typeface="Arial"/>
              </a:rPr>
              <a:t>Ölüm gecesinden bu sahile hiç dönme</a:t>
            </a:r>
            <a:r>
              <a:rPr b="1" lang="tr-TR" sz="2400" spc="-1" strike="noStrike" u="sng">
                <a:solidFill>
                  <a:srgbClr val="ffffff"/>
                </a:solidFill>
                <a:uFillTx/>
                <a:latin typeface="Arial"/>
              </a:rPr>
              <a:t>mek</a:t>
            </a: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  bitme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</a:t>
            </a:r>
            <a:r>
              <a:rPr b="0" lang="tr-TR" sz="1000" spc="-1" strike="noStrike">
                <a:solidFill>
                  <a:srgbClr val="ffffff"/>
                </a:solidFill>
                <a:latin typeface="Arial"/>
              </a:rPr>
              <a:t>Öz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ffffff"/>
                </a:solidFill>
                <a:latin typeface="Arial"/>
              </a:rPr>
              <a:t>bir özleyişt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175e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5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SIFAT-FİİL GRUB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175e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Her yapıdaki fiil tabanlarından çeşitli eklerle türeyen,sıfat görevini üstlenen fiil türevlerine sıfat-fiil(ortaç)denir.Sıfat-fiillerin kendisinden önce gelen sözcüklerle oluşturduğu öbeğe </a:t>
            </a:r>
            <a:r>
              <a:rPr b="1" lang="tr-TR" sz="3200" spc="-1" strike="noStrike">
                <a:solidFill>
                  <a:srgbClr val="ffffff"/>
                </a:solidFill>
                <a:latin typeface="Arial"/>
              </a:rPr>
              <a:t>sıfat-fiil grubu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den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Sıfat –fiil üreten ekler şunlardı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-an, -ası, -mez, -ar , -dik, -ecek , -mi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175e"/>
            </a:gs>
            <a:gs pos="100000">
              <a:srgbClr val="ff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ÖRN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ana dar gelmey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cek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makber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imler kazsı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irtili Nes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.t                    z.t                             yük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Hayata beraber başla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ığ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ımız dostlar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at Tümle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llarımız bir bir ayrıld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Çocukluğumd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acalara takıl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n,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beya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Öz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ulut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vard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2f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ARF-FİİL GRUB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Fiil tabanlarından çeşitli eklerle türeyen,fiil anlamını yitirmeden zarf(belirteç)görevi üstlenen fiil türevlerine  zarf-fiil(ulaç)den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-er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-dıkç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-m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-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-ı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-ın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-a…….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-r……..-m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7575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Bir gün nehirler gibi derinden çağlay</a:t>
            </a:r>
            <a:r>
              <a:rPr b="1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arak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</a:t>
            </a:r>
            <a:r>
              <a:rPr b="0" lang="tr-TR" sz="1200" spc="-1" strike="noStrike">
                <a:solidFill>
                  <a:srgbClr val="ffffff"/>
                </a:solidFill>
                <a:latin typeface="Arial"/>
              </a:rPr>
              <a:t>Zarf Tümle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Dağlardan,ormanlardan sana akacak mıyı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Halkın yüzü gül</a:t>
            </a:r>
            <a:r>
              <a:rPr b="1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dükçe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gülümser beşeriy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tr-TR" sz="1200" spc="-1" strike="noStrike">
                <a:solidFill>
                  <a:srgbClr val="ffffff"/>
                </a:solidFill>
                <a:latin typeface="Arial"/>
              </a:rPr>
              <a:t>Zarf tümle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Ben ,</a:t>
            </a:r>
            <a:r>
              <a:rPr b="0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sevgi bağından bir çiçek der</a:t>
            </a:r>
            <a:r>
              <a:rPr b="1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meden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hudutt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tr-TR" sz="1200" spc="-1" strike="noStrike">
                <a:solidFill>
                  <a:srgbClr val="ffffff"/>
                </a:solidFill>
                <a:latin typeface="Arial"/>
              </a:rPr>
              <a:t>Zarf  Tümle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huduta atılmışı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Seni göremey</a:t>
            </a:r>
            <a:r>
              <a:rPr b="1" lang="tr-TR" sz="2800" spc="-1" strike="noStrike" u="sng">
                <a:solidFill>
                  <a:srgbClr val="ffffff"/>
                </a:solidFill>
                <a:uFillTx/>
                <a:latin typeface="Arial"/>
              </a:rPr>
              <a:t>ince</a:t>
            </a:r>
            <a:r>
              <a:rPr b="0" lang="tr-TR" sz="2800" spc="-1" strike="noStrike">
                <a:solidFill>
                  <a:srgbClr val="ffffff"/>
                </a:solidFill>
                <a:latin typeface="Arial"/>
              </a:rPr>
              <a:t>  ben de sinemaya gitt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50000">
              <a:srgbClr val="9999ff"/>
            </a:gs>
            <a:gs pos="100000">
              <a:srgbClr val="46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İSİM TAMLAMALAR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İRLEŞİK FİİL  GRUB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b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ınav için notlarım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göz attı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ük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hep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aman altından su yürütü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ük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 günlerd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ağzını bıçak açmıyord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ük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 günlerde beni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arar old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ük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EDAT GRUB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227160"/>
            <a:ext cx="8229600" cy="61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 isimle bir edatın oluşturduğu öbeğ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at(ilgeç)öbeğ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n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cak kad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çocuğun cevaplarına b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 orad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uruma gö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vranmış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nnet gib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tanımız v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BAĞLAMA GRUB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00"/>
            </a:gs>
            <a:gs pos="50000">
              <a:srgbClr val="ffff00"/>
            </a:gs>
            <a:gs pos="100000">
              <a:srgbClr val="757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ş görevleri sözcüklerin bağlaçlarla bağlanmasıyla oluşan  öbeğ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ğlama grub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en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k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kuvv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ılıçla kalkan gibi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Öz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Öğretme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l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öğrenc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ynı bütünün parçalarıdı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Öz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ard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r kö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bir evin  hay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özne                                                  özne                                                               öz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kakları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kız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m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deni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kok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öz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2f17"/>
            </a:gs>
            <a:gs pos="5000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EKRAR(İKİLEME)GRUB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2f17"/>
            </a:gs>
            <a:gs pos="5000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ynı,yakın ya da karşıt anlamlı sözcüklerin ,anlamı güçlendirmek için yan yana kullanılmasıyla oluşan sözcük öbeğine tekrar(ikileme) grubu den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ayfa sayf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çevirdiğim kita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ısra mısr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kuduğum şii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 dağlar üstün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valar üstüne serpilmiş Türkiye’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ynı sözcüğün tekrarlanmasınd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2f17"/>
            </a:gs>
            <a:gs pos="50000">
              <a:srgbClr val="996633"/>
            </a:gs>
            <a:gs pos="100000">
              <a:srgbClr val="462f1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en kalender meşrebi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 u="sng">
                <a:solidFill>
                  <a:srgbClr val="ffffff"/>
                </a:solidFill>
                <a:uFillTx/>
                <a:latin typeface="Arial"/>
              </a:rPr>
              <a:t>Güzel çirkin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aramam.(karşıt anlaml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 u="sng">
                <a:solidFill>
                  <a:srgbClr val="ffffff"/>
                </a:solidFill>
                <a:uFillTx/>
                <a:latin typeface="Arial"/>
              </a:rPr>
              <a:t>Eski püskü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giysiler giymiş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(biri anlamlı diğeri anlamsı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 u="sng">
                <a:solidFill>
                  <a:srgbClr val="ffffff"/>
                </a:solidFill>
                <a:uFillTx/>
                <a:latin typeface="Arial"/>
              </a:rPr>
              <a:t>Ivır zıvır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şeylerden söz ediyor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(İkis de anlamsı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46"/>
            </a:gs>
            <a:gs pos="100000">
              <a:srgbClr val="cc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ÜNLEM GRUB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50000">
              <a:srgbClr val="9999ff"/>
            </a:gs>
            <a:gs pos="100000">
              <a:srgbClr val="46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8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İSİM TAMLAMALA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55280" y="1196640"/>
            <a:ext cx="7777080" cy="532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ir ismin başka bir isimle oluşturduğu anlamlı sözcük öbeğine isim tamlaması den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Türkçede dört türlü isim tamlaması vardır.Bun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BELİRTİLİ İSİM TAMLAM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Tamlayan ve tamlanan her ikisi de tamlama eki alı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İzmir’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deniz-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Öğretmen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- in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kürsü-s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-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Kapın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-ın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kol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-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BELİRTİSİZ İSİM TAMLAM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Sadece tamlanan tamlama eki alı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Gül yaprağ-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 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ınıf  kapıs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 - 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Koltuk kenar-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 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0046"/>
            </a:gs>
            <a:gs pos="100000">
              <a:srgbClr val="cc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r ünlemle bir isim unsurunun oluşturduğu sözcük öbeğin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ünlem grub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en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o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! Senin yolu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ünlem         is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ım vereyim Mevla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bu topraklar için toprağa düşmüş ask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Ünlem                                                              isim unsu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75"/>
            </a:gs>
            <a:gs pos="50000">
              <a:srgbClr val="9900ff"/>
            </a:gs>
            <a:gs pos="100000">
              <a:srgbClr val="46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ÜNVAN GRUB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0075"/>
            </a:gs>
            <a:gs pos="50000">
              <a:srgbClr val="9900ff"/>
            </a:gs>
            <a:gs pos="100000">
              <a:srgbClr val="46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Bir kişi ismiyle ünvan gösteren bir ismin oluşturduğu gruba ünvan grubu den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ffffff"/>
                </a:solidFill>
                <a:uFillTx/>
                <a:latin typeface="Arial"/>
              </a:rPr>
              <a:t>Deniz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200" spc="-1" strike="noStrike" u="sng">
                <a:solidFill>
                  <a:srgbClr val="ffffff"/>
                </a:solidFill>
                <a:uFillTx/>
                <a:latin typeface="Arial"/>
              </a:rPr>
              <a:t>Hanım  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tr-TR" sz="3200" spc="-1" strike="noStrike" u="sng">
                <a:solidFill>
                  <a:srgbClr val="ffffff"/>
                </a:solidFill>
                <a:uFillTx/>
                <a:latin typeface="Arial"/>
              </a:rPr>
              <a:t>Ali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tr-TR" sz="3200" spc="-1" strike="noStrike" u="sng">
                <a:solidFill>
                  <a:srgbClr val="ffffff"/>
                </a:solidFill>
                <a:uFillTx/>
                <a:latin typeface="Arial"/>
              </a:rPr>
              <a:t>Be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tr-TR" sz="1200" spc="-1" strike="noStrike">
                <a:solidFill>
                  <a:srgbClr val="ffffff"/>
                </a:solidFill>
                <a:latin typeface="Arial"/>
              </a:rPr>
              <a:t>Kişi ismi                  ünvan                                                 kişi ismi       ünv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 u="sng">
                <a:solidFill>
                  <a:srgbClr val="ffffff"/>
                </a:solidFill>
                <a:uFillTx/>
                <a:latin typeface="Arial"/>
              </a:rPr>
              <a:t>Mustafa Kemal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200" spc="-1" strike="noStrike" u="sng">
                <a:solidFill>
                  <a:srgbClr val="ffffff"/>
                </a:solidFill>
                <a:uFillTx/>
                <a:latin typeface="Arial"/>
              </a:rPr>
              <a:t>Paşa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tr-TR" sz="3200" spc="-1" strike="noStrike" u="sng">
                <a:solidFill>
                  <a:srgbClr val="ffffff"/>
                </a:solidFill>
                <a:uFillTx/>
                <a:latin typeface="Arial"/>
              </a:rPr>
              <a:t>Adnan</a:t>
            </a:r>
            <a:r>
              <a:rPr b="0" lang="tr-T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r-TR" sz="3200" spc="-1" strike="noStrike" u="sng">
                <a:solidFill>
                  <a:srgbClr val="ffffff"/>
                </a:solidFill>
                <a:uFillTx/>
                <a:latin typeface="Arial"/>
              </a:rPr>
              <a:t>Öğret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tr-TR" sz="1200" spc="-1" strike="noStrike">
                <a:solidFill>
                  <a:srgbClr val="ffffff"/>
                </a:solidFill>
                <a:latin typeface="Arial"/>
              </a:rPr>
              <a:t>Kişi ismi                                  unvan                                 kişi ismi                      ünv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50000">
              <a:srgbClr val="9999ff"/>
            </a:gs>
            <a:gs pos="100000">
              <a:srgbClr val="46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8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İSİM TAMLAMALA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55280" y="1196640"/>
            <a:ext cx="7777080" cy="532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ISIZ İSİM TAMLAM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mlayan ve tamlanan her ikisi de tamlama eki almaz;fakat ikisi de isimdir.Tamlayan sözcük tamlananın “Neyden yapıldığını?” , “Neye benzediğini?” belirt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piç du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z mend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hta 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lan as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lık a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ytin göz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50000">
              <a:srgbClr val="9999ff"/>
            </a:gs>
            <a:gs pos="100000">
              <a:srgbClr val="46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8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İSİM TAMLAMALA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55280" y="1196640"/>
            <a:ext cx="7777080" cy="532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ZİNCİRLEME İSİM TAMLAM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En az üç isimle kurulur.Tamlayan ve tamlanandan biri veya her ikisi de ism tamlamasıdı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 u="sng">
                <a:solidFill>
                  <a:srgbClr val="000000"/>
                </a:solidFill>
                <a:uFillTx/>
                <a:latin typeface="Arial"/>
              </a:rPr>
              <a:t>1.Tamlayanın İsim Tamlaması olduğu Zincirlene İsim Tamlamalar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ÖRN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Şehir sokaklarının lambalar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Masa ayağının demi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Dalga seslerinin yankıs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 u="sng">
                <a:solidFill>
                  <a:srgbClr val="000000"/>
                </a:solidFill>
                <a:uFillTx/>
                <a:latin typeface="Arial"/>
              </a:rPr>
              <a:t>2.Tamlananın İsim Tamlaması Olduğu Zincirleme  İsim tamlamalar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ÖRN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Ayşegül’ün okul masraflar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Öğrencilerin sınav heyecan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Evin demir kapıs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50000">
              <a:srgbClr val="9999ff"/>
            </a:gs>
            <a:gs pos="100000">
              <a:srgbClr val="46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8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İSİM TAMLAMALA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280" y="1196640"/>
            <a:ext cx="7777080" cy="532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İNCİRLEME İSİM TAMLAM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.Tamlayanın  ve Tamlananın  İsim Tamlaması Olduğu Zincirleme İsim Tamlamalar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ÖRN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debiyat öğretmenin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ot deft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mlayan                           tamla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levizyon programını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aşlama sa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mlayan                                 tamlan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50000">
              <a:srgbClr val="9999ff"/>
            </a:gs>
            <a:gs pos="100000">
              <a:srgbClr val="46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8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İSİM TAMLAMALARINDA ÖZELLİK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55280" y="1196640"/>
            <a:ext cx="7777080" cy="532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1.İsim tamlamalarında tamlayanla tamlanan yer değiştirebil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Buz gibidir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suları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bu güzelim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köyü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Rengi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hala yanımdadir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gözlerin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2.İsim tamlamalarında tamlayanın başına veya tamlayanla tamlananın arasına değişik türde  sözcükler girebil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000000"/>
                </a:solidFill>
                <a:uFillTx/>
                <a:latin typeface="Arial"/>
              </a:rPr>
              <a:t>Mavi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 gömleğin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 u="sng">
                <a:solidFill>
                  <a:srgbClr val="000000"/>
                </a:solidFill>
                <a:uFillTx/>
                <a:latin typeface="Arial"/>
              </a:rPr>
              <a:t>beyaz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 düğmeleri(sıfatl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Ağaçların </a:t>
            </a:r>
            <a:r>
              <a:rPr b="0" lang="tr-TR" sz="1800" spc="-1" strike="noStrike" u="sng">
                <a:solidFill>
                  <a:srgbClr val="000000"/>
                </a:solidFill>
                <a:uFillTx/>
                <a:latin typeface="Arial"/>
              </a:rPr>
              <a:t>sararmış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 yaprakları(pekiştilmiş sıfat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Sahilin </a:t>
            </a:r>
            <a:r>
              <a:rPr b="0" lang="tr-TR" sz="1800" spc="-1" strike="noStrike" u="sng">
                <a:solidFill>
                  <a:srgbClr val="000000"/>
                </a:solidFill>
                <a:uFillTx/>
                <a:latin typeface="Arial"/>
              </a:rPr>
              <a:t>artık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tadı kalmadı.(zar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3.İsim tamlamalarında bir tamlayan birden fazla tamlanana bağlanabil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Roman </a:t>
            </a:r>
            <a:r>
              <a:rPr b="1" i="1" lang="tr-TR" sz="1800" spc="-1" strike="noStrike" u="sng">
                <a:solidFill>
                  <a:srgbClr val="000000"/>
                </a:solidFill>
                <a:uFillTx/>
                <a:latin typeface="Arial"/>
              </a:rPr>
              <a:t>eleştirmenleri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 ve </a:t>
            </a:r>
            <a:r>
              <a:rPr b="1" i="1" lang="tr-TR" sz="1800" spc="-1" strike="noStrike" u="sng">
                <a:solidFill>
                  <a:srgbClr val="000000"/>
                </a:solidFill>
                <a:uFillTx/>
                <a:latin typeface="Arial"/>
              </a:rPr>
              <a:t>okurları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 taze soluklar istiy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Bahçenin </a:t>
            </a:r>
            <a:r>
              <a:rPr b="1" i="1" lang="tr-TR" sz="1800" spc="-1" strike="noStrike" u="sng">
                <a:solidFill>
                  <a:srgbClr val="000000"/>
                </a:solidFill>
                <a:uFillTx/>
                <a:latin typeface="Arial"/>
              </a:rPr>
              <a:t>sümbülü 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tr-TR" sz="1800" spc="-1" strike="noStrike" u="sng">
                <a:solidFill>
                  <a:srgbClr val="000000"/>
                </a:solidFill>
                <a:uFillTx/>
                <a:latin typeface="Arial"/>
              </a:rPr>
              <a:t>bülbülü</a:t>
            </a:r>
            <a:r>
              <a:rPr b="1" lang="tr-TR" sz="1800" spc="-1" strike="noStrike">
                <a:solidFill>
                  <a:srgbClr val="000000"/>
                </a:solidFill>
                <a:latin typeface="Arial"/>
              </a:rPr>
              <a:t> hiç eksik olmazd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50000">
              <a:srgbClr val="9999ff"/>
            </a:gs>
            <a:gs pos="100000">
              <a:srgbClr val="4646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8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İSİM TAMLAMALARINDA ÖZELLİK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55280" y="1196640"/>
            <a:ext cx="7777080" cy="532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İsim tamlamalarında bir tamlanan birden fazla tamlayana bağlanabil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Öğrenciler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öğretmenler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runları tartışıld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natçı,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oma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v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ne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anında başarılıyd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İsim tamlamalarında bazı durumlarda tamlayan  düşebil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Onun)Kardeşi dün okula gitmiş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enin)Şiirlerini okudum fakat beğenmedi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izim)Evimiz   okula oldukça uzakt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İsim tamlamaları bir sıfat tarafından nitelenebilir ya da belirtilebil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avi) Çocuk önlüğ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halı) güneş gözlüğ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Bu) Sahil kasabas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00"/>
            </a:gs>
            <a:gs pos="50000">
              <a:srgbClr val="99cc00"/>
            </a:gs>
            <a:gs pos="100000">
              <a:srgbClr val="46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770436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SIFATLA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21:32:23Z</dcterms:created>
  <dc:creator>*</dc:creator>
  <dc:description/>
  <dc:language>en-US</dc:language>
  <cp:lastModifiedBy>yusufk</cp:lastModifiedBy>
  <dcterms:modified xsi:type="dcterms:W3CDTF">2010-04-19T15:21:16Z</dcterms:modified>
  <cp:revision>22</cp:revision>
  <dc:subject/>
  <dc:title>İSİM TAMLAMALARI</dc:title>
</cp:coreProperties>
</file>